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80206"/>
        <c:axId val="40712567"/>
      </c:barChart>
      <c:catAx>
        <c:axId val="32580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12567"/>
        <c:crosses val="autoZero"/>
        <c:auto val="1"/>
        <c:lblAlgn val="ctr"/>
        <c:lblOffset val="100"/>
        <c:noMultiLvlLbl val="0"/>
      </c:catAx>
      <c:valAx>
        <c:axId val="40712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80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FCC-BBC1-4FB0-A4D9-94521A4D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A04-63D9-4AF7-9261-033CEC8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7F9-ED12-4875-9B57-946328C1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28B-6429-424C-BE53-660CE2DD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8B4-BC61-4C58-9303-8400375D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3DC-FC9F-4FCC-9D4D-24A14CC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D4F-CBD5-47D1-BB60-BFF05156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9A9-FA6D-4A03-AFEC-3FD6E2E7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6E6-6066-49F7-9F16-0AAC595E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EF1-3DEB-4F50-B4E9-A507A60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5F4-DA12-4243-AB69-DB8847C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3DC-D3BF-4A99-B146-9168EBD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4E4B6-EACE-4642-A096-06FD8F131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