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810577"/>
        <c:axId val="8567070"/>
      </c:barChart>
      <c:catAx>
        <c:axId val="938105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7070"/>
        <c:crosses val="autoZero"/>
        <c:auto val="1"/>
        <c:lblAlgn val="ctr"/>
        <c:lblOffset val="100"/>
        <c:noMultiLvlLbl val="0"/>
      </c:catAx>
      <c:valAx>
        <c:axId val="8567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105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2B96-8EA5-4A94-9CA6-356B7B54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C216-99E8-4DB0-ABCF-1C2D8719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4E65-67FF-461F-9932-89714BDF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D4E-0E02-4646-ADAA-092935D9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6F4B-344E-4833-96D6-FE239321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6D0-D95B-4D6B-B059-D501B365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528C-2F05-4CF6-A575-67404980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41E-B8DD-4653-B1EE-0C0DF80C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ADE0-FDB5-422F-9E7E-58245654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3F02-097D-467A-87F3-184165C6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63B8-2D55-4183-AA42-BADD18BD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0D4-7BA6-4B72-AE0E-2028BF29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EBB92-F492-4669-8387-55BD9A8CB6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