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712094"/>
        <c:axId val="69238367"/>
      </c:barChart>
      <c:catAx>
        <c:axId val="137120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38367"/>
        <c:crosses val="autoZero"/>
        <c:auto val="1"/>
        <c:lblAlgn val="ctr"/>
        <c:lblOffset val="100"/>
        <c:noMultiLvlLbl val="0"/>
      </c:catAx>
      <c:valAx>
        <c:axId val="692383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120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B61E-C228-4650-979A-B02BA06A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653B-0B26-401C-954C-30A1DF6E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D4E3-F485-4E05-8077-BE52ECA9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B515-7ADD-47D4-B2D5-CA4CAAAD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3E4D-8077-4A35-8234-E61CE337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1D3E-F67C-4B19-8DA1-95FD0713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CD78-B321-496D-BBE6-030E0C36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4E30-6A1F-4273-9FEA-D848FEC0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20A3-625B-4759-B824-C0B60957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4411-585C-4D46-97BA-580EB7AB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50CD-6735-41EB-95FB-B0495F88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8F38-D14C-4E3B-8A0B-84DA2D58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70A5E-C5C5-437E-9D4A-DC8C93619A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