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7" end="2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A7F-A06A-4EE9-8E86-4F0A9976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530-2464-4C7C-8FBE-7A2B6A87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EB7-1215-4F54-A08B-38E93E68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DB7-4326-41FB-89E1-E2FB3C3E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860-5195-44C1-9E56-44A06F49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582-EB5D-4C1C-8E5C-38EEBD03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5CC-5808-45E1-9CE9-060BD666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5DA-C8D5-4053-8B95-5D65C1D2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086-5862-472E-BF2C-AB818205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54F-3D95-4D35-BFD0-EBB56C04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21D-6E6B-4E61-9813-287F1E84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B42-2DD3-442E-B983-DFDE9EC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4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3855BA-5865-4DF9-994B-44FCB89D35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use.sf.net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S Circulation environment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“Trusted HTTP-FUSE Xenoppix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2492280"/>
            <a:ext cx="8529480" cy="42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unit.aist.go.jp/itri/knoppix/http-fuse/index-en.htm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unit.aist.go.jp/itri/knoppix/xen/index-e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uniyasu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zak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Toshiki Yag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Kengo Iijim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chi Tsukamoto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Megumi Nakamur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eiji Munetoh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Institute of Advanced Industrial Science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versity of Tok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BM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1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1720"/>
                <a:tab algn="l" pos="1446120"/>
                <a:tab algn="l" pos="2360520"/>
                <a:tab algn="l" pos="3274920"/>
                <a:tab algn="l" pos="4189320"/>
                <a:tab algn="l" pos="5103720"/>
                <a:tab algn="l" pos="6018120"/>
                <a:tab algn="l" pos="6932520"/>
                <a:tab algn="l" pos="7846920"/>
                <a:tab algn="l" pos="8761320"/>
                <a:tab algn="l" pos="9675720"/>
                <a:tab algn="l" pos="1059012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ization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have to consider dis-connection of network for mobile compu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elessLinux of RHEL5 takes snapshot on a local storage as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locks of Trusted HTTP-FUSE CLOOP are cached on a local sto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applications don’t access extra blocks, it works 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ally security management is independent of virtual disk, because security of OS should be managed by security software or package mana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ommitment of virtual disk is to keep uncontaminated cont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usted HTTP-FUSE CLOOP check the validness of contents when it mapped to a virtual di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TTP-FUSE CLOOP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block device is split by 256KB and  compressed by zlib. Each data is saved to a block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s are managed by “index” file which works as a header of C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 name is a SHA1 value of its cont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there is a same contests blocks, they are held together a same name file and </a:t>
            </a:r>
            <a:r>
              <a:rPr b="1" lang="en-GB" sz="2000" spc="-1" strike="noStrike">
                <a:solidFill>
                  <a:srgbClr val="ff5050"/>
                </a:solidFill>
                <a:latin typeface="Arial"/>
              </a:rPr>
              <a:t>reduce total file spa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asic idea is resemble to “Venti of Plan9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s are reconstructed to a CLOOP file by FUSE wrap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SE is a User-land Fil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fuse.sf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 block file is measured with the SHA1 file name when it mapped to C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TTP-FUSE CLOOP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8680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file is updated or created on an original block device, the relevant block files are newly created with new SHA1 name. The “index” file are also ren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ld block files are reu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 for file 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popular and well desig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hosting is in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0 port is usually ope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network block devices use special port which is  usually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ck files are network/storage transpa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lock files are cached and reused on local storag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necessary block files are stored in a local storage, network connection is not necess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700280"/>
            <a:ext cx="2050920" cy="3673440"/>
          </a:xfrm>
          <a:prstGeom prst="rect">
            <a:avLst/>
          </a:prstGeom>
          <a:solidFill>
            <a:srgbClr val="3366ff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944720"/>
            <a:ext cx="143964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268280"/>
            <a:ext cx="1800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19280" y="2232000"/>
            <a:ext cx="865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256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53708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0920" y="2232000"/>
            <a:ext cx="1439640" cy="1728720"/>
            <a:chOff x="250920" y="2232000"/>
            <a:chExt cx="1439640" cy="1728720"/>
          </a:xfrm>
        </p:grpSpPr>
        <p:sp>
          <p:nvSpPr>
            <p:cNvPr id="73" name=""/>
            <p:cNvSpPr/>
            <p:nvPr/>
          </p:nvSpPr>
          <p:spPr>
            <a:xfrm>
              <a:off x="250920" y="223200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20" y="251928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0920" y="280656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920" y="309564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0920" y="338292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0920" y="367020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920" y="395928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15880" y="194328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KB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2920" y="222084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 rot="16680000">
            <a:off x="1050840" y="2153880"/>
            <a:ext cx="1011240" cy="52992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720 h 529920"/>
              <a:gd name="textAreaBottom" fmla="*/ 264960 h 52992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 rot="14340000">
            <a:off x="945000" y="1787040"/>
            <a:ext cx="1011240" cy="53028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360 h 530280"/>
              <a:gd name="textAreaBottom" fmla="*/ 264600 h 53028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76560" y="2669400"/>
            <a:ext cx="566640" cy="1152360"/>
            <a:chOff x="1276560" y="2669400"/>
            <a:chExt cx="566640" cy="1152360"/>
          </a:xfrm>
        </p:grpSpPr>
        <p:sp>
          <p:nvSpPr>
            <p:cNvPr id="85" name=""/>
            <p:cNvSpPr/>
            <p:nvPr/>
          </p:nvSpPr>
          <p:spPr>
            <a:xfrm flipH="1" flipV="1" rot="16680000">
              <a:off x="1088640" y="3105000"/>
              <a:ext cx="943560" cy="438120"/>
            </a:xfrm>
            <a:custGeom>
              <a:avLst/>
              <a:gdLst>
                <a:gd name="textAreaLeft" fmla="*/ 346320 w 943560"/>
                <a:gd name="textAreaRight" fmla="*/ 805320 w 943560"/>
                <a:gd name="textAreaTop" fmla="*/ -360 h 438120"/>
                <a:gd name="textAreaBottom" fmla="*/ 218520 h 4381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4920000">
              <a:off x="1090800" y="2943360"/>
              <a:ext cx="934920" cy="438480"/>
            </a:xfrm>
            <a:custGeom>
              <a:avLst/>
              <a:gdLst>
                <a:gd name="textAreaLeft" fmla="*/ 358560 w 934920"/>
                <a:gd name="textAreaRight" fmla="*/ 797760 w 934920"/>
                <a:gd name="textAreaTop" fmla="*/ 0 h 438480"/>
                <a:gd name="textAreaBottom" fmla="*/ 219240 h 43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294200" y="3546000"/>
            <a:ext cx="536760" cy="975240"/>
            <a:chOff x="1294200" y="3546000"/>
            <a:chExt cx="536760" cy="975240"/>
          </a:xfrm>
        </p:grpSpPr>
        <p:sp>
          <p:nvSpPr>
            <p:cNvPr id="88" name=""/>
            <p:cNvSpPr/>
            <p:nvPr/>
          </p:nvSpPr>
          <p:spPr>
            <a:xfrm flipH="1" flipV="1" rot="16680000">
              <a:off x="1164600" y="3881520"/>
              <a:ext cx="795240" cy="430560"/>
            </a:xfrm>
            <a:custGeom>
              <a:avLst/>
              <a:gdLst>
                <a:gd name="textAreaLeft" fmla="*/ 291960 w 795240"/>
                <a:gd name="textAreaRight" fmla="*/ 678960 w 795240"/>
                <a:gd name="textAreaTop" fmla="*/ 0 h 430560"/>
                <a:gd name="textAreaBottom" fmla="*/ 215280 h 4305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4920000">
              <a:off x="1166400" y="3752280"/>
              <a:ext cx="789120" cy="428400"/>
            </a:xfrm>
            <a:custGeom>
              <a:avLst/>
              <a:gdLst>
                <a:gd name="textAreaLeft" fmla="*/ 303480 w 789120"/>
                <a:gd name="textAreaRight" fmla="*/ 673920 w 789120"/>
                <a:gd name="textAreaTop" fmla="*/ 0 h 428400"/>
                <a:gd name="textAreaBottom" fmla="*/ 214200 h 4284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90560" y="1944720"/>
            <a:ext cx="100836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690560" y="2405160"/>
            <a:ext cx="1024200" cy="40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90560" y="2655360"/>
            <a:ext cx="1027080" cy="10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90560" y="2903040"/>
            <a:ext cx="96516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448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3816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01788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71640" y="218916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197316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40516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262080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283680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557360"/>
            <a:ext cx="26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dex and 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2946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1916280"/>
            <a:ext cx="136656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index.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4ad36ffe8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974daf34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2d34ff3e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3310012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HGS教科書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2852640"/>
            <a:ext cx="792360" cy="1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3284640"/>
            <a:ext cx="30243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block files are re-constructed as a virtual disk with HTTP-FUSE C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4149720"/>
            <a:ext cx="1656000" cy="574560"/>
          </a:xfrm>
          <a:prstGeom prst="wedgeRoundRectCallout">
            <a:avLst>
              <a:gd name="adj1" fmla="val -36768"/>
              <a:gd name="adj2" fmla="val -14972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res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y z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78160" y="1916280"/>
            <a:ext cx="1008000" cy="1800000"/>
          </a:xfrm>
          <a:prstGeom prst="ellipse">
            <a:avLst/>
          </a:prstGeom>
          <a:noFill/>
          <a:ln w="4752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311280" y="981000"/>
            <a:ext cx="75960" cy="489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68400" y="1916280"/>
            <a:ext cx="2089440" cy="1657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2233440"/>
            <a:ext cx="611280" cy="187560"/>
          </a:xfrm>
          <a:prstGeom prst="foldedCorner">
            <a:avLst>
              <a:gd name="adj" fmla="val 12500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59240" y="201780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244944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665440"/>
            <a:ext cx="611280" cy="187200"/>
          </a:xfrm>
          <a:prstGeom prst="foldedCorner">
            <a:avLst>
              <a:gd name="adj" fmla="val 12500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22520" y="299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0680" y="223344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680" y="2449440"/>
            <a:ext cx="611280" cy="187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680" y="266544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9680" y="1341360"/>
            <a:ext cx="201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tents S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760" y="2990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19240" y="2565360"/>
            <a:ext cx="576360" cy="1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78160" y="3933720"/>
            <a:ext cx="1800000" cy="9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Each block fie is measured with its file 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at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1280" y="1944720"/>
            <a:ext cx="718920" cy="216000"/>
          </a:xfrm>
          <a:prstGeom prst="rect">
            <a:avLst/>
          </a:prstGeom>
          <a:solidFill>
            <a:srgbClr val="ff6600">
              <a:alpha val="45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5527080" y="2371680"/>
            <a:ext cx="247680" cy="819000"/>
          </a:xfrm>
          <a:custGeom>
            <a:avLst/>
            <a:gdLst>
              <a:gd name="textAreaLeft" fmla="*/ 0 w 247680"/>
              <a:gd name="textAreaRight" fmla="*/ 248040 w 247680"/>
              <a:gd name="textAreaTop" fmla="*/ 106200 h 819000"/>
              <a:gd name="textAreaBottom" fmla="*/ 712800 h 81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5463720" y="2619360"/>
            <a:ext cx="247680" cy="819000"/>
          </a:xfrm>
          <a:custGeom>
            <a:avLst/>
            <a:gdLst>
              <a:gd name="textAreaLeft" fmla="*/ 0 w 247680"/>
              <a:gd name="textAreaRight" fmla="*/ 248040 w 247680"/>
              <a:gd name="textAreaTop" fmla="*/ 106200 h 819000"/>
              <a:gd name="textAreaBottom" fmla="*/ 712800 h 81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>
              <a:alpha val="42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117760" y="3152880"/>
            <a:ext cx="880920" cy="336600"/>
            <a:chOff x="5117760" y="3152880"/>
            <a:chExt cx="880920" cy="336600"/>
          </a:xfrm>
        </p:grpSpPr>
        <p:sp>
          <p:nvSpPr>
            <p:cNvPr id="127" name=""/>
            <p:cNvSpPr/>
            <p:nvPr/>
          </p:nvSpPr>
          <p:spPr>
            <a:xfrm rot="5400000">
              <a:off x="5505840" y="2828160"/>
              <a:ext cx="168120" cy="8175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5442120" y="2996280"/>
              <a:ext cx="168480" cy="81756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5400000">
            <a:off x="5592960" y="1877040"/>
            <a:ext cx="247680" cy="817560"/>
          </a:xfrm>
          <a:custGeom>
            <a:avLst/>
            <a:gdLst>
              <a:gd name="textAreaLeft" fmla="*/ 0 w 247680"/>
              <a:gd name="textAreaRight" fmla="*/ 248040 w 247680"/>
              <a:gd name="textAreaTop" fmla="*/ 105840 h 817560"/>
              <a:gd name="textAreaBottom" fmla="*/ 7117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5529600" y="2124720"/>
            <a:ext cx="247680" cy="817560"/>
          </a:xfrm>
          <a:custGeom>
            <a:avLst/>
            <a:gdLst>
              <a:gd name="textAreaLeft" fmla="*/ 0 w 247680"/>
              <a:gd name="textAreaRight" fmla="*/ 248040 w 247680"/>
              <a:gd name="textAreaTop" fmla="*/ 105840 h 817560"/>
              <a:gd name="textAreaBottom" fmla="*/ 7117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>
              <a:alpha val="42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1944720"/>
            <a:ext cx="216000" cy="18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38520" y="1341360"/>
            <a:ext cx="2521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OP file(700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/cdrom/KNOP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1268280"/>
            <a:ext cx="25923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oopback(2G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# losetup /dev/C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/cdrom/KNOPP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43640" y="4619520"/>
            <a:ext cx="57636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99280" y="3816360"/>
            <a:ext cx="97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99280" y="4248000"/>
            <a:ext cx="865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ache 64K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6360" y="2016000"/>
            <a:ext cx="5032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307280" y="1944720"/>
            <a:ext cx="1160280" cy="2887560"/>
            <a:chOff x="7307280" y="1944720"/>
            <a:chExt cx="1160280" cy="2887560"/>
          </a:xfrm>
        </p:grpSpPr>
        <p:sp>
          <p:nvSpPr>
            <p:cNvPr id="139" name=""/>
            <p:cNvSpPr/>
            <p:nvPr/>
          </p:nvSpPr>
          <p:spPr>
            <a:xfrm>
              <a:off x="7307280" y="1944720"/>
              <a:ext cx="1119240" cy="266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86640" y="446400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308720" y="2233440"/>
              <a:ext cx="1119240" cy="1729080"/>
              <a:chOff x="7308720" y="2233440"/>
              <a:chExt cx="1119240" cy="1729080"/>
            </a:xfrm>
          </p:grpSpPr>
          <p:sp>
            <p:nvSpPr>
              <p:cNvPr id="142" name=""/>
              <p:cNvSpPr/>
              <p:nvPr/>
            </p:nvSpPr>
            <p:spPr>
              <a:xfrm>
                <a:off x="7308720" y="223344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308720" y="252108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308720" y="280836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08720" y="309708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08720" y="338472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08720" y="3672000"/>
                <a:ext cx="1119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08720" y="3960720"/>
                <a:ext cx="1119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7527960" y="194472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4KB 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58640" y="222264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07280" y="3095640"/>
              <a:ext cx="111924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972040" y="2406600"/>
            <a:ext cx="1335240" cy="40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2664000"/>
            <a:ext cx="1440000" cy="1009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8360" y="28796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72680" y="3241800"/>
            <a:ext cx="576000" cy="71280"/>
          </a:xfrm>
          <a:prstGeom prst="leftArrow">
            <a:avLst>
              <a:gd name="adj1" fmla="val 50000"/>
              <a:gd name="adj2" fmla="val 2020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475308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5080" y="499428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796000" y="2592360"/>
            <a:ext cx="647640" cy="2235240"/>
            <a:chOff x="5796000" y="2592360"/>
            <a:chExt cx="647640" cy="2235240"/>
          </a:xfrm>
        </p:grpSpPr>
        <p:sp>
          <p:nvSpPr>
            <p:cNvPr id="159" name=""/>
            <p:cNvSpPr/>
            <p:nvPr/>
          </p:nvSpPr>
          <p:spPr>
            <a:xfrm>
              <a:off x="5796000" y="2592360"/>
              <a:ext cx="27468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70680" y="2592360"/>
              <a:ext cx="1440" cy="22338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70680" y="4826160"/>
              <a:ext cx="372960" cy="144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364000" y="4968720"/>
            <a:ext cx="10796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Times New Roman"/>
              </a:rPr>
              <a:t>decom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20000" y="3240000"/>
            <a:ext cx="287280" cy="1730520"/>
            <a:chOff x="7020000" y="3240000"/>
            <a:chExt cx="287280" cy="1730520"/>
          </a:xfrm>
        </p:grpSpPr>
        <p:sp>
          <p:nvSpPr>
            <p:cNvPr id="164" name=""/>
            <p:cNvSpPr/>
            <p:nvPr/>
          </p:nvSpPr>
          <p:spPr>
            <a:xfrm>
              <a:off x="7164360" y="3240000"/>
              <a:ext cx="1440" cy="1728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20000" y="4968720"/>
              <a:ext cx="14436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4360" y="3240000"/>
              <a:ext cx="142920" cy="1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020000" y="4968720"/>
            <a:ext cx="720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6600"/>
                </a:solidFill>
                <a:latin typeface="Times New Roman"/>
              </a:rPr>
              <a:t>ex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4897440"/>
            <a:ext cx="576360" cy="14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95960" y="1944720"/>
            <a:ext cx="215640" cy="18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06880" y="388764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06880" y="2089080"/>
            <a:ext cx="1152360" cy="18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14880" y="2736720"/>
            <a:ext cx="18730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90880" y="1484280"/>
            <a:ext cx="16570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/tmp/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59240" y="17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Times New Roman"/>
              </a:rPr>
              <a:t>index.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79960" y="1992240"/>
            <a:ext cx="8654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imes New Roman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3300"/>
                </a:solidFill>
                <a:latin typeface="Times New Roman"/>
              </a:rPr>
              <a:t>(location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5240" y="1916280"/>
            <a:ext cx="13669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4ad36ffe8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974daf34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2d34ff3e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3310012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19240" y="2997360"/>
            <a:ext cx="576360" cy="1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881440"/>
            <a:ext cx="611280" cy="1872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765000"/>
            <a:ext cx="1225440" cy="432000"/>
          </a:xfrm>
          <a:prstGeom prst="wedgeRoundRectCallout">
            <a:avLst>
              <a:gd name="adj1" fmla="val -47796"/>
              <a:gd name="adj2" fmla="val 1930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btain in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16320" y="2492280"/>
            <a:ext cx="1942920" cy="180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14880" y="2924280"/>
            <a:ext cx="1942920" cy="14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14880" y="2349360"/>
            <a:ext cx="18730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4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64072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11280" y="476280"/>
            <a:ext cx="1800360" cy="2376360"/>
          </a:xfrm>
          <a:custGeom>
            <a:avLst/>
            <a:gdLst>
              <a:gd name="textAreaLeft" fmla="*/ 46800 w 1800360"/>
              <a:gd name="textAreaRight" fmla="*/ 1753560 w 1800360"/>
              <a:gd name="textAreaTop" fmla="*/ 46800 h 2376360"/>
              <a:gd name="textAreaBottom" fmla="*/ 2329560 h 2376360"/>
            </a:gdLst>
            <a:ahLst/>
            <a:rect l="textAreaLeft" t="textAreaTop" r="textAreaRight" b="textAreaBottom"/>
            <a:pathLst>
              <a:path w="21600" h="28509">
                <a:moveTo>
                  <a:pt x="1931" y="0"/>
                </a:moveTo>
                <a:arcTo wR="1931" hR="1931" stAng="16200000" swAng="-5400000"/>
                <a:lnTo>
                  <a:pt x="0" y="26578"/>
                </a:lnTo>
                <a:arcTo wR="1931" hR="1931" stAng="10800000" swAng="-5400000"/>
                <a:lnTo>
                  <a:pt x="19669" y="28509"/>
                </a:lnTo>
                <a:arcTo wR="1931" hR="1931" stAng="5400000" swAng="-5400000"/>
                <a:lnTo>
                  <a:pt x="21600" y="1931"/>
                </a:lnTo>
                <a:arcTo wR="1931" hR="1931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27200" y="1511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1480" y="1511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56120" y="1511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7200" y="1943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1480" y="194328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56120" y="1943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1230480"/>
            <a:ext cx="1440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Block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89480" y="1511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3760" y="1511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89480" y="1943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3760" y="194328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360360"/>
            <a:ext cx="19447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che files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c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936720"/>
            <a:ext cx="1800360" cy="1555560"/>
          </a:xfrm>
          <a:prstGeom prst="roundRect">
            <a:avLst>
              <a:gd name="adj" fmla="val 8940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83200" y="155736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11760" y="155736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97480" y="1989000"/>
            <a:ext cx="26208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5480" y="155736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59760" y="196200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708360" y="2133720"/>
            <a:ext cx="981000" cy="144144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042920" y="1557360"/>
            <a:ext cx="650880" cy="719280"/>
            <a:chOff x="1042920" y="1557360"/>
            <a:chExt cx="650880" cy="719280"/>
          </a:xfrm>
        </p:grpSpPr>
        <p:sp>
          <p:nvSpPr>
            <p:cNvPr id="207" name=""/>
            <p:cNvSpPr/>
            <p:nvPr/>
          </p:nvSpPr>
          <p:spPr>
            <a:xfrm>
              <a:off x="1042920" y="1557360"/>
              <a:ext cx="650880" cy="719280"/>
            </a:xfrm>
            <a:custGeom>
              <a:avLst/>
              <a:gdLst>
                <a:gd name="textAreaLeft" fmla="*/ 360 w 650880"/>
                <a:gd name="textAreaRight" fmla="*/ 650520 w 650880"/>
                <a:gd name="textAreaTop" fmla="*/ 360 h 719280"/>
                <a:gd name="textAreaBottom" fmla="*/ 718920 h 719280"/>
              </a:gdLst>
              <a:ahLst/>
              <a:rect l="textAreaLeft" t="textAreaTop" r="textAreaRight" b="textAreaBottom"/>
              <a:pathLst>
                <a:path w="21600" h="23869">
                  <a:moveTo>
                    <a:pt x="52" y="0"/>
                  </a:moveTo>
                  <a:arcTo wR="52" hR="52" stAng="16200000" swAng="-5400000"/>
                  <a:lnTo>
                    <a:pt x="0" y="23817"/>
                  </a:lnTo>
                  <a:arcTo wR="52" hR="52" stAng="10800000" swAng="-5400000"/>
                  <a:lnTo>
                    <a:pt x="21548" y="23869"/>
                  </a:lnTo>
                  <a:arcTo wR="52" hR="52" stAng="5400000" swAng="-5400000"/>
                  <a:lnTo>
                    <a:pt x="21600" y="52"/>
                  </a:lnTo>
                  <a:arcTo wR="52" hR="5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54080" y="1670040"/>
              <a:ext cx="627120" cy="590400"/>
            </a:xfrm>
            <a:custGeom>
              <a:avLst/>
              <a:gdLst/>
              <a:ahLst/>
              <a:rect l="l" t="t" r="r" b="b"/>
              <a:pathLst>
                <a:path w="3325" h="2677">
                  <a:moveTo>
                    <a:pt x="3325" y="2169"/>
                  </a:moveTo>
                  <a:lnTo>
                    <a:pt x="3290" y="2271"/>
                  </a:lnTo>
                  <a:lnTo>
                    <a:pt x="3193" y="2366"/>
                  </a:lnTo>
                  <a:lnTo>
                    <a:pt x="3039" y="2452"/>
                  </a:lnTo>
                  <a:lnTo>
                    <a:pt x="2837" y="2528"/>
                  </a:lnTo>
                  <a:lnTo>
                    <a:pt x="2590" y="2590"/>
                  </a:lnTo>
                  <a:lnTo>
                    <a:pt x="2308" y="2637"/>
                  </a:lnTo>
                  <a:lnTo>
                    <a:pt x="1995" y="2667"/>
                  </a:lnTo>
                  <a:lnTo>
                    <a:pt x="1662" y="2677"/>
                  </a:lnTo>
                  <a:lnTo>
                    <a:pt x="1326" y="2667"/>
                  </a:lnTo>
                  <a:lnTo>
                    <a:pt x="1014" y="2637"/>
                  </a:lnTo>
                  <a:lnTo>
                    <a:pt x="732" y="2590"/>
                  </a:lnTo>
                  <a:lnTo>
                    <a:pt x="486" y="2528"/>
                  </a:lnTo>
                  <a:lnTo>
                    <a:pt x="282" y="2452"/>
                  </a:lnTo>
                  <a:lnTo>
                    <a:pt x="129" y="2366"/>
                  </a:lnTo>
                  <a:lnTo>
                    <a:pt x="33" y="2271"/>
                  </a:lnTo>
                  <a:lnTo>
                    <a:pt x="0" y="2169"/>
                  </a:lnTo>
                  <a:lnTo>
                    <a:pt x="0" y="0"/>
                  </a:lnTo>
                  <a:lnTo>
                    <a:pt x="3325" y="0"/>
                  </a:lnTo>
                  <a:lnTo>
                    <a:pt x="3325" y="2169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54080" y="1558800"/>
              <a:ext cx="627120" cy="223920"/>
            </a:xfrm>
            <a:custGeom>
              <a:avLst/>
              <a:gdLst/>
              <a:ahLst/>
              <a:rect l="l" t="t" r="r" b="b"/>
              <a:pathLst>
                <a:path w="3325" h="1013">
                  <a:moveTo>
                    <a:pt x="1662" y="0"/>
                  </a:moveTo>
                  <a:lnTo>
                    <a:pt x="1326" y="9"/>
                  </a:lnTo>
                  <a:lnTo>
                    <a:pt x="1014" y="39"/>
                  </a:lnTo>
                  <a:lnTo>
                    <a:pt x="732" y="85"/>
                  </a:lnTo>
                  <a:lnTo>
                    <a:pt x="486" y="148"/>
                  </a:lnTo>
                  <a:lnTo>
                    <a:pt x="282" y="222"/>
                  </a:lnTo>
                  <a:lnTo>
                    <a:pt x="129" y="309"/>
                  </a:lnTo>
                  <a:lnTo>
                    <a:pt x="33" y="404"/>
                  </a:lnTo>
                  <a:lnTo>
                    <a:pt x="0" y="507"/>
                  </a:lnTo>
                  <a:lnTo>
                    <a:pt x="33" y="608"/>
                  </a:lnTo>
                  <a:lnTo>
                    <a:pt x="129" y="703"/>
                  </a:lnTo>
                  <a:lnTo>
                    <a:pt x="282" y="788"/>
                  </a:lnTo>
                  <a:lnTo>
                    <a:pt x="486" y="864"/>
                  </a:lnTo>
                  <a:lnTo>
                    <a:pt x="732" y="925"/>
                  </a:lnTo>
                  <a:lnTo>
                    <a:pt x="1014" y="972"/>
                  </a:lnTo>
                  <a:lnTo>
                    <a:pt x="1326" y="1002"/>
                  </a:lnTo>
                  <a:lnTo>
                    <a:pt x="1662" y="1013"/>
                  </a:lnTo>
                  <a:lnTo>
                    <a:pt x="1995" y="1002"/>
                  </a:lnTo>
                  <a:lnTo>
                    <a:pt x="2308" y="972"/>
                  </a:lnTo>
                  <a:lnTo>
                    <a:pt x="2590" y="925"/>
                  </a:lnTo>
                  <a:lnTo>
                    <a:pt x="2837" y="864"/>
                  </a:lnTo>
                  <a:lnTo>
                    <a:pt x="3039" y="788"/>
                  </a:lnTo>
                  <a:lnTo>
                    <a:pt x="3193" y="703"/>
                  </a:lnTo>
                  <a:lnTo>
                    <a:pt x="3290" y="608"/>
                  </a:lnTo>
                  <a:lnTo>
                    <a:pt x="3325" y="507"/>
                  </a:lnTo>
                  <a:lnTo>
                    <a:pt x="3290" y="404"/>
                  </a:lnTo>
                  <a:lnTo>
                    <a:pt x="3193" y="309"/>
                  </a:lnTo>
                  <a:lnTo>
                    <a:pt x="3039" y="222"/>
                  </a:lnTo>
                  <a:lnTo>
                    <a:pt x="2837" y="148"/>
                  </a:lnTo>
                  <a:lnTo>
                    <a:pt x="2590" y="85"/>
                  </a:lnTo>
                  <a:lnTo>
                    <a:pt x="2308" y="39"/>
                  </a:lnTo>
                  <a:lnTo>
                    <a:pt x="1995" y="9"/>
                  </a:lnTo>
                  <a:lnTo>
                    <a:pt x="1662" y="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7870680" y="1989000"/>
            <a:ext cx="1243080" cy="1324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906480" cy="10508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7667640" y="1413000"/>
            <a:ext cx="906480" cy="1050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5280" y="2349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ll Virtualized 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549360"/>
            <a:ext cx="14400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dex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56000" y="836640"/>
            <a:ext cx="261720" cy="36036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83200" y="1125360"/>
            <a:ext cx="262080" cy="360720"/>
          </a:xfrm>
          <a:prstGeom prst="foldedCorner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63640" y="1700280"/>
            <a:ext cx="615960" cy="341280"/>
          </a:xfrm>
          <a:prstGeom prst="rightArrow">
            <a:avLst>
              <a:gd name="adj1" fmla="val 50000"/>
              <a:gd name="adj2" fmla="val 451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3640" y="35002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85080" y="32068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ient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8172360" y="4869000"/>
            <a:ext cx="630360" cy="1268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835760" y="602136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ient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4394160"/>
            <a:ext cx="1800000" cy="1555920"/>
          </a:xfrm>
          <a:prstGeom prst="roundRect">
            <a:avLst>
              <a:gd name="adj" fmla="val 8940"/>
            </a:avLst>
          </a:prstGeom>
          <a:solidFill>
            <a:srgbClr val="ffff99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643280" y="2563560"/>
            <a:ext cx="3097440" cy="36180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43280" y="2997360"/>
            <a:ext cx="3097440" cy="12952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2565360"/>
            <a:ext cx="1960560" cy="1224000"/>
          </a:xfrm>
          <a:prstGeom prst="cloudCallout">
            <a:avLst>
              <a:gd name="adj1" fmla="val 40930"/>
              <a:gd name="adj2" fmla="val -3106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72360" y="342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24000" y="476280"/>
            <a:ext cx="1721880" cy="1584360"/>
            <a:chOff x="324000" y="476280"/>
            <a:chExt cx="1721880" cy="1584360"/>
          </a:xfrm>
        </p:grpSpPr>
        <p:sp>
          <p:nvSpPr>
            <p:cNvPr id="228" name=""/>
            <p:cNvSpPr/>
            <p:nvPr/>
          </p:nvSpPr>
          <p:spPr>
            <a:xfrm>
              <a:off x="324000" y="476280"/>
              <a:ext cx="914400" cy="9144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360" y="4762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Securit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58920" y="1916280"/>
              <a:ext cx="288720" cy="144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90960" y="3357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ster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763640" y="620640"/>
            <a:ext cx="3867120" cy="3681360"/>
            <a:chOff x="1763640" y="620640"/>
            <a:chExt cx="3867120" cy="3681360"/>
          </a:xfrm>
        </p:grpSpPr>
        <p:sp>
          <p:nvSpPr>
            <p:cNvPr id="233" name=""/>
            <p:cNvSpPr/>
            <p:nvPr/>
          </p:nvSpPr>
          <p:spPr>
            <a:xfrm>
              <a:off x="2527200" y="237492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1480" y="237492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56120" y="237492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70280" y="83664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63640" y="393372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New Block 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24360" y="62064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New Index 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340000" y="2779200"/>
              <a:ext cx="503280" cy="10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11280" y="2276640"/>
              <a:ext cx="1152720" cy="64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201840" y="836640"/>
              <a:ext cx="7956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 rot="5400000">
            <a:off x="762120" y="2056320"/>
            <a:ext cx="563760" cy="2016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7812000" y="4149720"/>
            <a:ext cx="906480" cy="105084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3564000" y="4292640"/>
            <a:ext cx="4149720" cy="1514520"/>
            <a:chOff x="3564000" y="4292640"/>
            <a:chExt cx="4149720" cy="1514520"/>
          </a:xfrm>
        </p:grpSpPr>
        <p:sp>
          <p:nvSpPr>
            <p:cNvPr id="245" name=""/>
            <p:cNvSpPr/>
            <p:nvPr/>
          </p:nvSpPr>
          <p:spPr>
            <a:xfrm>
              <a:off x="6127920" y="501480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42200" y="544680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48360" y="5013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51640" y="54198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73920" y="5445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2720" y="4941720"/>
              <a:ext cx="718920" cy="863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64000" y="4292640"/>
              <a:ext cx="316872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932360" y="981000"/>
            <a:ext cx="2877480" cy="3962520"/>
            <a:chOff x="4932360" y="981000"/>
            <a:chExt cx="2877480" cy="3962520"/>
          </a:xfrm>
        </p:grpSpPr>
        <p:sp>
          <p:nvSpPr>
            <p:cNvPr id="253" name=""/>
            <p:cNvSpPr/>
            <p:nvPr/>
          </p:nvSpPr>
          <p:spPr>
            <a:xfrm>
              <a:off x="6127920" y="458316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32360" y="981000"/>
              <a:ext cx="1224000" cy="36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0160" y="450864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Updated 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ak point of HTTP-FUSE C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-FUSE CLOOP is Vulnerable for Network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demand &amp; small data request makes narrow bandwidth on long lat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n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the nearest one among candidates dowonload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n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 download necessary block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ftware R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e for network latency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(Find near download s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6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Client Side Sol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net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select measures the latency of candidate servers and finds nearest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worldvisions.ca/~apenwarr/netselec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Server Side Solu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NS-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NS-Balance is a name resolver which suggests near candidate servers 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with routing information offered by RADB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openlab.jp/dns_balance/dns_balanc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OS Circul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Bootloader “Xenopp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ized Virtual Disk “HTTP-FUSE CLOOP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144360" y="1413000"/>
            <a:ext cx="8675640" cy="4824360"/>
            <a:chOff x="144360" y="1413000"/>
            <a:chExt cx="8675640" cy="482436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44360" y="1413000"/>
              <a:ext cx="5462640" cy="45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5737320" y="1679400"/>
              <a:ext cx="308268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1042920" y="2708280"/>
            <a:ext cx="3313080" cy="28908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2852640"/>
            <a:ext cx="3168720" cy="289080"/>
          </a:xfrm>
          <a:prstGeom prst="line">
            <a:avLst/>
          </a:prstGeom>
          <a:ln w="936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83664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NS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lv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ect.inetboot.ne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horte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2997360"/>
            <a:ext cx="2808000" cy="144360"/>
          </a:xfrm>
          <a:prstGeom prst="line">
            <a:avLst/>
          </a:prstGeom>
          <a:ln w="9360">
            <a:solidFill>
              <a:srgbClr val="99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7640" y="3141720"/>
            <a:ext cx="2808360" cy="144360"/>
          </a:xfrm>
          <a:prstGeom prst="line">
            <a:avLst/>
          </a:prstGeom>
          <a:ln w="93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87280" y="306864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59280" y="5300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72360" y="3284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48360" y="335772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8000" y="42926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34290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26920" y="2565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80360" y="3141720"/>
            <a:ext cx="14436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2779560"/>
            <a:ext cx="14472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3068640"/>
            <a:ext cx="14436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16000" y="3284640"/>
            <a:ext cx="1727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XXX.168.0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80360" y="3357720"/>
            <a:ext cx="17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YY.10.0.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333360"/>
            <a:ext cx="144720" cy="1443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16360" y="69228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16360" y="981000"/>
            <a:ext cx="144720" cy="144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932360" y="260280"/>
            <a:ext cx="421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b server for HTTP-FUSE Xenopp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NS server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s.inetbo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ock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08360" y="321300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olve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NS-bananc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.inetboot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969480" y="2706480"/>
            <a:ext cx="219240" cy="3632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093080" y="3282840"/>
            <a:ext cx="287280" cy="76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6100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S-Bal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24000" y="3573360"/>
            <a:ext cx="406080" cy="505080"/>
            <a:chOff x="324000" y="3573360"/>
            <a:chExt cx="406080" cy="505080"/>
          </a:xfrm>
        </p:grpSpPr>
        <p:sp>
          <p:nvSpPr>
            <p:cNvPr id="289" name=""/>
            <p:cNvSpPr/>
            <p:nvPr/>
          </p:nvSpPr>
          <p:spPr>
            <a:xfrm>
              <a:off x="468360" y="357336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5280" y="364644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4000" y="37180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572000" y="1197000"/>
            <a:ext cx="406440" cy="504720"/>
            <a:chOff x="4572000" y="1197000"/>
            <a:chExt cx="406440" cy="504720"/>
          </a:xfrm>
        </p:grpSpPr>
        <p:sp>
          <p:nvSpPr>
            <p:cNvPr id="293" name=""/>
            <p:cNvSpPr/>
            <p:nvPr/>
          </p:nvSpPr>
          <p:spPr>
            <a:xfrm>
              <a:off x="4716360" y="1197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3280" y="127008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0" y="1341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987640" y="4437000"/>
            <a:ext cx="406440" cy="504720"/>
            <a:chOff x="2987640" y="4437000"/>
            <a:chExt cx="406440" cy="504720"/>
          </a:xfrm>
        </p:grpSpPr>
        <p:sp>
          <p:nvSpPr>
            <p:cNvPr id="297" name=""/>
            <p:cNvSpPr/>
            <p:nvPr/>
          </p:nvSpPr>
          <p:spPr>
            <a:xfrm>
              <a:off x="3132000" y="4437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59280" y="45100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87640" y="4581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6084720" y="3500280"/>
            <a:ext cx="406440" cy="505080"/>
            <a:chOff x="6084720" y="3500280"/>
            <a:chExt cx="406440" cy="505080"/>
          </a:xfrm>
        </p:grpSpPr>
        <p:sp>
          <p:nvSpPr>
            <p:cNvPr id="301" name=""/>
            <p:cNvSpPr/>
            <p:nvPr/>
          </p:nvSpPr>
          <p:spPr>
            <a:xfrm>
              <a:off x="6229440" y="35002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56360" y="3573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84720" y="364500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572000" y="2349360"/>
            <a:ext cx="406440" cy="505080"/>
            <a:chOff x="4572000" y="2349360"/>
            <a:chExt cx="406440" cy="505080"/>
          </a:xfrm>
        </p:grpSpPr>
        <p:sp>
          <p:nvSpPr>
            <p:cNvPr id="305" name=""/>
            <p:cNvSpPr/>
            <p:nvPr/>
          </p:nvSpPr>
          <p:spPr>
            <a:xfrm>
              <a:off x="4716360" y="2349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43280" y="242244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2000" y="249408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4500720" y="5445000"/>
            <a:ext cx="406080" cy="505080"/>
            <a:chOff x="4500720" y="5445000"/>
            <a:chExt cx="406080" cy="505080"/>
          </a:xfrm>
        </p:grpSpPr>
        <p:sp>
          <p:nvSpPr>
            <p:cNvPr id="309" name=""/>
            <p:cNvSpPr/>
            <p:nvPr/>
          </p:nvSpPr>
          <p:spPr>
            <a:xfrm>
              <a:off x="4645080" y="544500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551808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00720" y="558972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732720" y="3573360"/>
            <a:ext cx="406440" cy="505080"/>
            <a:chOff x="6732720" y="3573360"/>
            <a:chExt cx="406440" cy="505080"/>
          </a:xfrm>
        </p:grpSpPr>
        <p:sp>
          <p:nvSpPr>
            <p:cNvPr id="313" name=""/>
            <p:cNvSpPr/>
            <p:nvPr/>
          </p:nvSpPr>
          <p:spPr>
            <a:xfrm>
              <a:off x="6877080" y="357336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04000" y="3646440"/>
              <a:ext cx="26208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32720" y="3718080"/>
              <a:ext cx="261720" cy="3603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580000" y="5465880"/>
            <a:ext cx="2089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outing ASSET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6000" y="5033880"/>
            <a:ext cx="431640" cy="43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19640" y="3645000"/>
            <a:ext cx="792360" cy="13665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3640" y="3716280"/>
            <a:ext cx="792360" cy="138744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867280" y="4292640"/>
            <a:ext cx="22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SK the nearest serve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select.inetbo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XX.168.0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YY.10.0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9800000">
            <a:off x="743040" y="2314440"/>
            <a:ext cx="576000" cy="1008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21000000">
            <a:off x="6804000" y="3139560"/>
            <a:ext cx="86220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e for network latency</a:t>
            </a:r>
            <a:br>
              <a:rPr sz="3200"/>
            </a:br>
            <a:r>
              <a:rPr b="0" lang="en-GB" sz="3200" spc="-1" strike="noStrike">
                <a:solidFill>
                  <a:srgbClr val="ff5050"/>
                </a:solidFill>
                <a:latin typeface="Arial"/>
              </a:rPr>
              <a:t>(Multiple download conne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LAHEAD (DownLoad AH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a profile of downloaded block files at boot ti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boo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lock files are downloaded in advance with extra download connections. (Default is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Effective and easy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RAID using 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rroring(RAID1) virtual block device makes fault tolerant and broadband with multiple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rrent Status of OS Cir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Boot 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enoppix (Xen 3.0.3 + KNOPPIX 5.0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bian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-FUSE C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up script for OS Cir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Images is obtained by Trusted HTTP-FUSE C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bian GNU/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updated with “apt-get”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B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rrent HTTP 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Hosting Service is reason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GB/ mount from $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21044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ve OS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 vPro, LUCOS[VEE’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plan to  integrate IDS and IPS on OS Cir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lkTap of Xen [USENIX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en offers an interface of software device “BlkTa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want to make an offload engine of Trusted HTTP-FUSE CLO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Circular is Client Centric OS Migration System which is consisted of Virtual Bootloader “Xenoppix” and Global Virtual Disk “Trusted HTTP-FUSE CLOOP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urrent target OSes are Debian GNU/Linux and FreeBS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bian is updated by “apt-get”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hope OS Circular easy-to-try O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411280" y="5084640"/>
            <a:ext cx="6481800" cy="1513080"/>
          </a:xfrm>
          <a:prstGeom prst="rect">
            <a:avLst/>
          </a:prstGeom>
          <a:solidFill>
            <a:srgbClr val="bbe0e3">
              <a:alpha val="33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5280" y="5583240"/>
            <a:ext cx="2025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opback 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-324000" y="3068640"/>
            <a:ext cx="1306800" cy="1454040"/>
            <a:chOff x="-324000" y="3068640"/>
            <a:chExt cx="1306800" cy="1454040"/>
          </a:xfrm>
        </p:grpSpPr>
        <p:sp>
          <p:nvSpPr>
            <p:cNvPr id="337" name=""/>
            <p:cNvSpPr/>
            <p:nvPr/>
          </p:nvSpPr>
          <p:spPr>
            <a:xfrm>
              <a:off x="-324000" y="3068640"/>
              <a:ext cx="1306800" cy="14540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-203040" y="3390840"/>
              <a:ext cx="969840" cy="95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"/>
          <p:cNvSpPr/>
          <p:nvPr/>
        </p:nvSpPr>
        <p:spPr>
          <a:xfrm>
            <a:off x="3862440" y="5195880"/>
            <a:ext cx="2160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967520" y="-243000"/>
            <a:ext cx="28764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04240" y="-24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35880" y="-24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99160" y="-24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55640" y="4033800"/>
            <a:ext cx="1370160" cy="1266840"/>
          </a:xfrm>
          <a:custGeom>
            <a:avLst/>
            <a:gdLst/>
            <a:ahLst/>
            <a:rect l="l" t="t" r="r" b="b"/>
            <a:pathLst>
              <a:path w="2457" h="798">
                <a:moveTo>
                  <a:pt x="2457" y="0"/>
                </a:moveTo>
                <a:lnTo>
                  <a:pt x="2439" y="798"/>
                </a:lnTo>
                <a:lnTo>
                  <a:pt x="13" y="798"/>
                </a:lnTo>
                <a:lnTo>
                  <a:pt x="0" y="297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4073400"/>
            <a:ext cx="1658880" cy="1366920"/>
          </a:xfrm>
          <a:custGeom>
            <a:avLst/>
            <a:gdLst/>
            <a:ahLst/>
            <a:rect l="l" t="t" r="r" b="b"/>
            <a:pathLst>
              <a:path w="2684" h="861">
                <a:moveTo>
                  <a:pt x="2684" y="0"/>
                </a:moveTo>
                <a:lnTo>
                  <a:pt x="2664" y="861"/>
                </a:lnTo>
                <a:lnTo>
                  <a:pt x="14" y="861"/>
                </a:lnTo>
                <a:lnTo>
                  <a:pt x="0" y="314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1280" y="5157720"/>
            <a:ext cx="1079280" cy="465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4080" y="5195880"/>
            <a:ext cx="107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-973080" y="2492280"/>
            <a:ext cx="2519280" cy="57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vdisk/vdisk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60" y="50515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620640"/>
            <a:ext cx="6697800" cy="5545080"/>
          </a:xfrm>
          <a:custGeom>
            <a:avLst/>
            <a:gdLst/>
            <a:ahLst/>
            <a:rect l="l" t="t" r="r" b="b"/>
            <a:pathLst>
              <a:path w="4003" h="2970">
                <a:moveTo>
                  <a:pt x="4003" y="0"/>
                </a:moveTo>
                <a:lnTo>
                  <a:pt x="3974" y="2970"/>
                </a:lnTo>
                <a:lnTo>
                  <a:pt x="22" y="2970"/>
                </a:lnTo>
                <a:lnTo>
                  <a:pt x="0" y="210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9280" y="620640"/>
            <a:ext cx="7201080" cy="5761080"/>
          </a:xfrm>
          <a:custGeom>
            <a:avLst/>
            <a:gdLst/>
            <a:ahLst/>
            <a:rect l="l" t="t" r="r" b="b"/>
            <a:pathLst>
              <a:path w="4305" h="3084">
                <a:moveTo>
                  <a:pt x="4305" y="0"/>
                </a:moveTo>
                <a:lnTo>
                  <a:pt x="4274" y="3084"/>
                </a:lnTo>
                <a:lnTo>
                  <a:pt x="20" y="3084"/>
                </a:lnTo>
                <a:lnTo>
                  <a:pt x="0" y="2095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959520" y="1379520"/>
            <a:ext cx="2519280" cy="57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tmp/blocks/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＊＊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12240" y="18828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543880" y="18828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07160" y="1882800"/>
            <a:ext cx="287640" cy="4064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70800" y="44751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i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70800" y="38275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bf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27880" y="3251160"/>
            <a:ext cx="143964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use-wr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99160" y="90792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bc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43880" y="6059520"/>
            <a:ext cx="107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-1116000" y="4653000"/>
            <a:ext cx="13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-895320" y="51577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367320" y="46080"/>
            <a:ext cx="1960560" cy="649080"/>
          </a:xfrm>
          <a:prstGeom prst="cloudCallout">
            <a:avLst>
              <a:gd name="adj1" fmla="val 33078"/>
              <a:gd name="adj2" fmla="val -3093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30440" y="651816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nstract CLOOP file from block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813800" y="522936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69080" y="4292640"/>
            <a:ext cx="14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ock De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36000" y="2637000"/>
            <a:ext cx="1223640" cy="360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bcryp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148360" y="2492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asure each block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0000" y="2349360"/>
            <a:ext cx="45370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101080" y="3213000"/>
            <a:ext cx="287280" cy="406440"/>
          </a:xfrm>
          <a:prstGeom prst="foldedCorner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172360" y="3789360"/>
            <a:ext cx="1584360" cy="719280"/>
          </a:xfrm>
          <a:prstGeom prst="wedgeRoundRectCallout">
            <a:avLst>
              <a:gd name="adj1" fmla="val -34870"/>
              <a:gd name="adj2" fmla="val -8421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ex f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tain in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32000" y="3429000"/>
            <a:ext cx="18698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/dev/cloop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63680" y="2249640"/>
            <a:ext cx="4680" cy="1108080"/>
          </a:xfrm>
          <a:custGeom>
            <a:avLst/>
            <a:gdLst/>
            <a:ahLst/>
            <a:rect l="l" t="t" r="r" b="b"/>
            <a:pathLst>
              <a:path w="3" h="698">
                <a:moveTo>
                  <a:pt x="0" y="0"/>
                </a:moveTo>
                <a:lnTo>
                  <a:pt x="3" y="6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19320" y="2276640"/>
            <a:ext cx="4680" cy="1108080"/>
          </a:xfrm>
          <a:custGeom>
            <a:avLst/>
            <a:gdLst/>
            <a:ahLst/>
            <a:rect l="l" t="t" r="r" b="b"/>
            <a:pathLst>
              <a:path w="3" h="698">
                <a:moveTo>
                  <a:pt x="0" y="0"/>
                </a:moveTo>
                <a:lnTo>
                  <a:pt x="3" y="6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87280" y="141300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en H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k=[‘phy:/dev/cloop0,hda1,ro’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2484360" y="476280"/>
            <a:ext cx="906480" cy="10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132000" y="260280"/>
            <a:ext cx="25210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O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474920" y="115920"/>
            <a:ext cx="2466720" cy="3537000"/>
            <a:chOff x="1474920" y="115920"/>
            <a:chExt cx="2466720" cy="3537000"/>
          </a:xfrm>
        </p:grpSpPr>
        <p:sp>
          <p:nvSpPr>
            <p:cNvPr id="379" name=""/>
            <p:cNvSpPr/>
            <p:nvPr/>
          </p:nvSpPr>
          <p:spPr>
            <a:xfrm>
              <a:off x="1474920" y="692280"/>
              <a:ext cx="1439640" cy="26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74920" y="115920"/>
              <a:ext cx="1800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Block De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(2G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43280" y="979560"/>
              <a:ext cx="86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64K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3640" y="328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474920" y="979560"/>
              <a:ext cx="1439640" cy="1728720"/>
              <a:chOff x="1474920" y="979560"/>
              <a:chExt cx="1439640" cy="1728720"/>
            </a:xfrm>
          </p:grpSpPr>
          <p:sp>
            <p:nvSpPr>
              <p:cNvPr id="384" name=""/>
              <p:cNvSpPr/>
              <p:nvPr/>
            </p:nvSpPr>
            <p:spPr>
              <a:xfrm>
                <a:off x="1474920" y="97956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74920" y="126684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74920" y="1554120"/>
                <a:ext cx="14396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74920" y="184320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474920" y="213048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74920" y="241776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474920" y="2706840"/>
                <a:ext cx="1439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739880" y="6904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4KB P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06920" y="968400"/>
              <a:ext cx="49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 rot="16680000">
              <a:off x="2275560" y="901440"/>
              <a:ext cx="1009440" cy="528840"/>
            </a:xfrm>
            <a:custGeom>
              <a:avLst/>
              <a:gdLst>
                <a:gd name="textAreaLeft" fmla="*/ 504720 w 1009440"/>
                <a:gd name="textAreaRight" fmla="*/ 861840 w 1009440"/>
                <a:gd name="textAreaTop" fmla="*/ 360 h 528840"/>
                <a:gd name="textAreaBottom" fmla="*/ 263880 h 5288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1566" y="27"/>
                  </a:moveTo>
                  <a:arcTo wR="10800" hR="10800" stAng="-5155864" swAng="2422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66" y="27"/>
                  </a:moveTo>
                  <a:arcTo wR="10800" hR="10800" stAng="-5155864" swAng="242253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 rot="14340000">
              <a:off x="2170440" y="533160"/>
              <a:ext cx="1009080" cy="528840"/>
            </a:xfrm>
            <a:custGeom>
              <a:avLst/>
              <a:gdLst>
                <a:gd name="textAreaLeft" fmla="*/ 504000 w 1009080"/>
                <a:gd name="textAreaRight" fmla="*/ 861120 w 1009080"/>
                <a:gd name="textAreaTop" fmla="*/ 360 h 528840"/>
                <a:gd name="textAreaBottom" fmla="*/ 263880 h 5288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1566" y="27"/>
                  </a:moveTo>
                  <a:arcTo wR="10800" hR="10800" stAng="-5155864" swAng="24225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1566" y="27"/>
                  </a:moveTo>
                  <a:arcTo wR="10800" hR="10800" stAng="-5155864" swAng="242253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2501640" y="1415160"/>
              <a:ext cx="563400" cy="1154880"/>
              <a:chOff x="2501640" y="1415160"/>
              <a:chExt cx="563400" cy="1154880"/>
            </a:xfrm>
          </p:grpSpPr>
          <p:sp>
            <p:nvSpPr>
              <p:cNvPr id="396" name=""/>
              <p:cNvSpPr/>
              <p:nvPr/>
            </p:nvSpPr>
            <p:spPr>
              <a:xfrm flipH="1" flipV="1" rot="16680000">
                <a:off x="2312280" y="1855440"/>
                <a:ext cx="941400" cy="436680"/>
              </a:xfrm>
              <a:custGeom>
                <a:avLst/>
                <a:gdLst>
                  <a:gd name="textAreaLeft" fmla="*/ 345240 w 941400"/>
                  <a:gd name="textAreaRight" fmla="*/ 803160 w 941400"/>
                  <a:gd name="textAreaTop" fmla="*/ -360 h 436680"/>
                  <a:gd name="textAreaBottom" fmla="*/ 217800 h 436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855" y="409"/>
                    </a:moveTo>
                    <a:arcTo wR="10800" hR="10800" stAng="-6349299" swAng="36159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855" y="409"/>
                    </a:moveTo>
                    <a:arcTo wR="10800" hR="10800" stAng="-6349299" swAng="361597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 rot="4920000">
                <a:off x="2316960" y="1689480"/>
                <a:ext cx="933480" cy="436680"/>
              </a:xfrm>
              <a:custGeom>
                <a:avLst/>
                <a:gdLst>
                  <a:gd name="textAreaLeft" fmla="*/ 358200 w 933480"/>
                  <a:gd name="textAreaRight" fmla="*/ 796680 w 933480"/>
                  <a:gd name="textAreaTop" fmla="*/ 0 h 436680"/>
                  <a:gd name="textAreaBottom" fmla="*/ 218160 h 436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8309" y="291"/>
                    </a:moveTo>
                    <a:arcTo wR="10800" hR="10800" stAng="-6200143" swAng="34668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09" y="291"/>
                    </a:moveTo>
                    <a:arcTo wR="10800" hR="10800" stAng="-6200143" swAng="346681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2518920" y="2291400"/>
              <a:ext cx="534600" cy="976680"/>
              <a:chOff x="2518920" y="2291400"/>
              <a:chExt cx="534600" cy="976680"/>
            </a:xfrm>
          </p:grpSpPr>
          <p:sp>
            <p:nvSpPr>
              <p:cNvPr id="399" name=""/>
              <p:cNvSpPr/>
              <p:nvPr/>
            </p:nvSpPr>
            <p:spPr>
              <a:xfrm flipH="1" flipV="1" rot="16680000">
                <a:off x="2388240" y="2629800"/>
                <a:ext cx="795240" cy="428400"/>
              </a:xfrm>
              <a:custGeom>
                <a:avLst/>
                <a:gdLst>
                  <a:gd name="textAreaLeft" fmla="*/ 291960 w 795240"/>
                  <a:gd name="textAreaRight" fmla="*/ 678960 w 795240"/>
                  <a:gd name="textAreaTop" fmla="*/ 360 h 428400"/>
                  <a:gd name="textAreaBottom" fmla="*/ 214560 h 428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855" y="409"/>
                    </a:moveTo>
                    <a:arcTo wR="10800" hR="10800" stAng="-6349299" swAng="36159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855" y="409"/>
                    </a:moveTo>
                    <a:arcTo wR="10800" hR="10800" stAng="-6349299" swAng="361597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rot="4920000">
                <a:off x="2391120" y="2497320"/>
                <a:ext cx="787320" cy="427320"/>
              </a:xfrm>
              <a:custGeom>
                <a:avLst/>
                <a:gdLst>
                  <a:gd name="textAreaLeft" fmla="*/ 302400 w 787320"/>
                  <a:gd name="textAreaRight" fmla="*/ 672120 w 787320"/>
                  <a:gd name="textAreaTop" fmla="*/ 0 h 427320"/>
                  <a:gd name="textAreaBottom" fmla="*/ 213480 h 427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8309" y="291"/>
                    </a:moveTo>
                    <a:arcTo wR="10800" hR="10800" stAng="-6200143" swAng="34668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09" y="291"/>
                    </a:moveTo>
                    <a:arcTo wR="10800" hR="10800" stAng="-6200143" swAng="346681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2914560" y="692280"/>
              <a:ext cx="1008000" cy="21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2914560" y="1150560"/>
              <a:ext cx="1024200" cy="40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914560" y="1401840"/>
              <a:ext cx="1027080" cy="1017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914560" y="1649520"/>
              <a:ext cx="965160" cy="1490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35280" y="11955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5280" y="25639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33480" y="176544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8604360" y="2133720"/>
            <a:ext cx="215640" cy="187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76720" y="260280"/>
            <a:ext cx="28083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lock files  named by M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74920" y="3782880"/>
            <a:ext cx="143964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43280" y="40705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64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63640" y="637524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474920" y="4070520"/>
            <a:ext cx="1439640" cy="1728720"/>
            <a:chOff x="1474920" y="4070520"/>
            <a:chExt cx="1439640" cy="1728720"/>
          </a:xfrm>
        </p:grpSpPr>
        <p:sp>
          <p:nvSpPr>
            <p:cNvPr id="414" name=""/>
            <p:cNvSpPr/>
            <p:nvPr/>
          </p:nvSpPr>
          <p:spPr>
            <a:xfrm>
              <a:off x="1474920" y="407052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4920" y="435780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74920" y="464508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74920" y="493380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74920" y="522144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74920" y="5508720"/>
              <a:ext cx="1439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74920" y="5797440"/>
              <a:ext cx="14396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1739880" y="378144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KB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06920" y="4059360"/>
            <a:ext cx="49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ex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 rot="16680000">
            <a:off x="2275560" y="3992400"/>
            <a:ext cx="1011240" cy="53028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360 h 530280"/>
              <a:gd name="textAreaBottom" fmla="*/ 264600 h 53028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 rot="14340000">
            <a:off x="2169000" y="3625560"/>
            <a:ext cx="1011240" cy="530280"/>
          </a:xfrm>
          <a:custGeom>
            <a:avLst/>
            <a:gdLst>
              <a:gd name="textAreaLeft" fmla="*/ 505080 w 1011240"/>
              <a:gd name="textAreaRight" fmla="*/ 862920 w 1011240"/>
              <a:gd name="textAreaTop" fmla="*/ 360 h 530280"/>
              <a:gd name="textAreaBottom" fmla="*/ 264600 h 530280"/>
            </a:gdLst>
            <a:ahLst/>
            <a:rect l="textAreaLeft" t="textAreaTop" r="textAreaRight" b="textAreaBottom"/>
            <a:pathLst>
              <a:path stroke="0" w="21600" h="21600">
                <a:moveTo>
                  <a:pt x="11566" y="27"/>
                </a:moveTo>
                <a:arcTo wR="10800" hR="10800" stAng="-5155864" swAng="2422534"/>
                <a:lnTo>
                  <a:pt x="10800" y="10800"/>
                </a:lnTo>
                <a:close/>
              </a:path>
              <a:path fill="none" w="21600" h="21600">
                <a:moveTo>
                  <a:pt x="11566" y="27"/>
                </a:moveTo>
                <a:arcTo wR="10800" hR="10800" stAng="-5155864" swAng="242253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500560" y="4507560"/>
            <a:ext cx="566640" cy="1151640"/>
            <a:chOff x="2500560" y="4507560"/>
            <a:chExt cx="566640" cy="1151640"/>
          </a:xfrm>
        </p:grpSpPr>
        <p:sp>
          <p:nvSpPr>
            <p:cNvPr id="426" name=""/>
            <p:cNvSpPr/>
            <p:nvPr/>
          </p:nvSpPr>
          <p:spPr>
            <a:xfrm flipH="1" flipV="1" rot="16680000">
              <a:off x="2313000" y="4942080"/>
              <a:ext cx="942840" cy="438480"/>
            </a:xfrm>
            <a:custGeom>
              <a:avLst/>
              <a:gdLst>
                <a:gd name="textAreaLeft" fmla="*/ 345960 w 942840"/>
                <a:gd name="textAreaRight" fmla="*/ 804960 w 942840"/>
                <a:gd name="textAreaTop" fmla="*/ 360 h 438480"/>
                <a:gd name="textAreaBottom" fmla="*/ 219600 h 43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rot="4920000">
              <a:off x="2314800" y="4781520"/>
              <a:ext cx="934920" cy="438480"/>
            </a:xfrm>
            <a:custGeom>
              <a:avLst/>
              <a:gdLst>
                <a:gd name="textAreaLeft" fmla="*/ 358560 w 934920"/>
                <a:gd name="textAreaRight" fmla="*/ 797760 w 934920"/>
                <a:gd name="textAreaTop" fmla="*/ 0 h 438480"/>
                <a:gd name="textAreaBottom" fmla="*/ 219240 h 43848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518200" y="5384160"/>
            <a:ext cx="536760" cy="975600"/>
            <a:chOff x="2518200" y="5384160"/>
            <a:chExt cx="536760" cy="975600"/>
          </a:xfrm>
        </p:grpSpPr>
        <p:sp>
          <p:nvSpPr>
            <p:cNvPr id="429" name=""/>
            <p:cNvSpPr/>
            <p:nvPr/>
          </p:nvSpPr>
          <p:spPr>
            <a:xfrm flipH="1" flipV="1" rot="16680000">
              <a:off x="2388600" y="5720040"/>
              <a:ext cx="795240" cy="430560"/>
            </a:xfrm>
            <a:custGeom>
              <a:avLst/>
              <a:gdLst>
                <a:gd name="textAreaLeft" fmla="*/ 291960 w 795240"/>
                <a:gd name="textAreaRight" fmla="*/ 678960 w 795240"/>
                <a:gd name="textAreaTop" fmla="*/ 0 h 430560"/>
                <a:gd name="textAreaBottom" fmla="*/ 215280 h 43056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855" y="409"/>
                  </a:moveTo>
                  <a:arcTo wR="10800" hR="10800" stAng="-6349299" swAng="3615970"/>
                  <a:lnTo>
                    <a:pt x="10800" y="10800"/>
                  </a:lnTo>
                  <a:close/>
                </a:path>
                <a:path fill="none" w="21600" h="21600">
                  <a:moveTo>
                    <a:pt x="7855" y="409"/>
                  </a:moveTo>
                  <a:arcTo wR="10800" hR="10800" stAng="-6349299" swAng="361597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rot="4920000">
              <a:off x="2390400" y="5590440"/>
              <a:ext cx="789120" cy="428400"/>
            </a:xfrm>
            <a:custGeom>
              <a:avLst/>
              <a:gdLst>
                <a:gd name="textAreaLeft" fmla="*/ 303480 w 789120"/>
                <a:gd name="textAreaRight" fmla="*/ 673920 w 789120"/>
                <a:gd name="textAreaTop" fmla="*/ 0 h 428400"/>
                <a:gd name="textAreaBottom" fmla="*/ 214200 h 4284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8309" y="291"/>
                  </a:moveTo>
                  <a:arcTo wR="10800" hR="10800" stAng="-6200143" swAng="3466813"/>
                  <a:lnTo>
                    <a:pt x="10800" y="10800"/>
                  </a:lnTo>
                  <a:close/>
                </a:path>
                <a:path fill="none" w="21600" h="21600">
                  <a:moveTo>
                    <a:pt x="8309" y="291"/>
                  </a:moveTo>
                  <a:arcTo wR="10800" hR="10800" stAng="-6200143" swAng="346681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914560" y="378288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914560" y="4242960"/>
            <a:ext cx="102420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914560" y="4493880"/>
            <a:ext cx="1027080" cy="10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914560" y="4741560"/>
            <a:ext cx="965160" cy="14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35280" y="4286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56545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3480" y="48560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74920" y="5229360"/>
            <a:ext cx="1439640" cy="288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108000" y="3789360"/>
            <a:ext cx="176364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</a:rPr>
              <a:t>apt-get install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24360" y="3830760"/>
            <a:ext cx="718920" cy="215640"/>
          </a:xfrm>
          <a:prstGeom prst="rect">
            <a:avLst/>
          </a:prstGeom>
          <a:solidFill>
            <a:srgbClr val="ff00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709800" y="4048200"/>
            <a:ext cx="1009440" cy="1326960"/>
            <a:chOff x="3709800" y="4048200"/>
            <a:chExt cx="1009440" cy="1326960"/>
          </a:xfrm>
        </p:grpSpPr>
        <p:grpSp>
          <p:nvGrpSpPr>
            <p:cNvPr id="442" name=""/>
            <p:cNvGrpSpPr/>
            <p:nvPr/>
          </p:nvGrpSpPr>
          <p:grpSpPr>
            <a:xfrm>
              <a:off x="3770280" y="4543560"/>
              <a:ext cx="882720" cy="495000"/>
              <a:chOff x="3770280" y="4543560"/>
              <a:chExt cx="882720" cy="495000"/>
            </a:xfrm>
          </p:grpSpPr>
          <p:sp>
            <p:nvSpPr>
              <p:cNvPr id="443" name=""/>
              <p:cNvSpPr/>
              <p:nvPr/>
            </p:nvSpPr>
            <p:spPr>
              <a:xfrm rot="5400000">
                <a:off x="4119480" y="4257720"/>
                <a:ext cx="247680" cy="8193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106200 h 819360"/>
                  <a:gd name="textAreaBottom" fmla="*/ 713160 h 81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5400000">
                <a:off x="4056120" y="4505040"/>
                <a:ext cx="247320" cy="8193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106200 h 819360"/>
                  <a:gd name="textAreaBottom" fmla="*/ 713160 h 81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709800" y="5038560"/>
              <a:ext cx="880920" cy="336600"/>
              <a:chOff x="3709800" y="5038560"/>
              <a:chExt cx="880920" cy="336600"/>
            </a:xfrm>
          </p:grpSpPr>
          <p:sp>
            <p:nvSpPr>
              <p:cNvPr id="446" name=""/>
              <p:cNvSpPr/>
              <p:nvPr/>
            </p:nvSpPr>
            <p:spPr>
              <a:xfrm rot="5400000">
                <a:off x="4097520" y="4713840"/>
                <a:ext cx="168480" cy="81756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105840 h 817560"/>
                  <a:gd name="textAreaBottom" fmla="*/ 711720 h 81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5400000">
                <a:off x="4034520" y="4882320"/>
                <a:ext cx="168120" cy="817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105840 h 817560"/>
                  <a:gd name="textAreaBottom" fmla="*/ 711720 h 81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4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rot="5400000">
              <a:off x="4186440" y="3763080"/>
              <a:ext cx="247680" cy="817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5400000">
              <a:off x="4123080" y="4010760"/>
              <a:ext cx="247680" cy="817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105840 h 817560"/>
                <a:gd name="textAreaBottom" fmla="*/ 7117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711240" y="692280"/>
            <a:ext cx="1006560" cy="1544400"/>
            <a:chOff x="3711240" y="692280"/>
            <a:chExt cx="1006560" cy="1544400"/>
          </a:xfrm>
        </p:grpSpPr>
        <p:sp>
          <p:nvSpPr>
            <p:cNvPr id="451" name=""/>
            <p:cNvSpPr/>
            <p:nvPr/>
          </p:nvSpPr>
          <p:spPr>
            <a:xfrm>
              <a:off x="3924360" y="692280"/>
              <a:ext cx="718920" cy="215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711240" y="909720"/>
              <a:ext cx="1006560" cy="1326960"/>
              <a:chOff x="3711240" y="909720"/>
              <a:chExt cx="1006560" cy="132696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3773160" y="1405080"/>
                <a:ext cx="880920" cy="495000"/>
                <a:chOff x="3773160" y="1405080"/>
                <a:chExt cx="880920" cy="495000"/>
              </a:xfrm>
            </p:grpSpPr>
            <p:sp>
              <p:nvSpPr>
                <p:cNvPr id="454" name=""/>
                <p:cNvSpPr/>
                <p:nvPr/>
              </p:nvSpPr>
              <p:spPr>
                <a:xfrm rot="5400000">
                  <a:off x="4121280" y="1119960"/>
                  <a:ext cx="247680" cy="817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5400000">
                  <a:off x="4058280" y="1367640"/>
                  <a:ext cx="247320" cy="817560"/>
                </a:xfrm>
                <a:custGeom>
                  <a:avLst/>
                  <a:gdLst>
                    <a:gd name="textAreaLeft" fmla="*/ 0 w 247320"/>
                    <a:gd name="textAreaRight" fmla="*/ 247680 w 24732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3711240" y="1900080"/>
                <a:ext cx="880920" cy="336600"/>
                <a:chOff x="3711240" y="1900080"/>
                <a:chExt cx="880920" cy="336600"/>
              </a:xfrm>
            </p:grpSpPr>
            <p:sp>
              <p:nvSpPr>
                <p:cNvPr id="457" name=""/>
                <p:cNvSpPr/>
                <p:nvPr/>
              </p:nvSpPr>
              <p:spPr>
                <a:xfrm rot="5400000">
                  <a:off x="4098960" y="1575360"/>
                  <a:ext cx="168480" cy="817560"/>
                </a:xfrm>
                <a:custGeom>
                  <a:avLst/>
                  <a:gdLst>
                    <a:gd name="textAreaLeft" fmla="*/ 0 w 168480"/>
                    <a:gd name="textAreaRight" fmla="*/ 168840 w 1684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5400000">
                  <a:off x="4035960" y="1743840"/>
                  <a:ext cx="168120" cy="817560"/>
                </a:xfrm>
                <a:custGeom>
                  <a:avLst/>
                  <a:gdLst>
                    <a:gd name="textAreaLeft" fmla="*/ 0 w 168120"/>
                    <a:gd name="textAreaRight" fmla="*/ 168480 w 16812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3836520" y="909720"/>
                <a:ext cx="881280" cy="495360"/>
                <a:chOff x="3836520" y="909720"/>
                <a:chExt cx="881280" cy="495360"/>
              </a:xfrm>
            </p:grpSpPr>
            <p:sp>
              <p:nvSpPr>
                <p:cNvPr id="460" name=""/>
                <p:cNvSpPr/>
                <p:nvPr/>
              </p:nvSpPr>
              <p:spPr>
                <a:xfrm rot="5400000">
                  <a:off x="4185000" y="624600"/>
                  <a:ext cx="247680" cy="817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5400000">
                  <a:off x="4121280" y="872280"/>
                  <a:ext cx="247680" cy="8175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105840 h 817560"/>
                    <a:gd name="textAreaBottom" fmla="*/ 711720 h 817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4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62" name=""/>
          <p:cNvGrpSpPr/>
          <p:nvPr/>
        </p:nvGrpSpPr>
        <p:grpSpPr>
          <a:xfrm>
            <a:off x="4643280" y="836640"/>
            <a:ext cx="720720" cy="865080"/>
            <a:chOff x="4643280" y="836640"/>
            <a:chExt cx="720720" cy="865080"/>
          </a:xfrm>
        </p:grpSpPr>
        <p:sp>
          <p:nvSpPr>
            <p:cNvPr id="463" name=""/>
            <p:cNvSpPr/>
            <p:nvPr/>
          </p:nvSpPr>
          <p:spPr>
            <a:xfrm>
              <a:off x="4643280" y="1052640"/>
              <a:ext cx="720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43280" y="1484280"/>
              <a:ext cx="7207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3280" y="1700280"/>
              <a:ext cx="720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43280" y="1268280"/>
              <a:ext cx="7207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3280" y="836640"/>
              <a:ext cx="72072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643280" y="3932280"/>
            <a:ext cx="649440" cy="938160"/>
            <a:chOff x="4643280" y="3932280"/>
            <a:chExt cx="649440" cy="938160"/>
          </a:xfrm>
        </p:grpSpPr>
        <p:sp>
          <p:nvSpPr>
            <p:cNvPr id="469" name=""/>
            <p:cNvSpPr/>
            <p:nvPr/>
          </p:nvSpPr>
          <p:spPr>
            <a:xfrm>
              <a:off x="4643280" y="4165560"/>
              <a:ext cx="64944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43280" y="463392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43280" y="486900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43280" y="440064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3280" y="3932280"/>
              <a:ext cx="649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0" y="3645000"/>
            <a:ext cx="7020000" cy="14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219640" y="720720"/>
            <a:ext cx="865080" cy="1341360"/>
            <a:chOff x="5219640" y="720720"/>
            <a:chExt cx="865080" cy="1341360"/>
          </a:xfrm>
        </p:grpSpPr>
        <p:sp>
          <p:nvSpPr>
            <p:cNvPr id="476" name=""/>
            <p:cNvSpPr/>
            <p:nvPr/>
          </p:nvSpPr>
          <p:spPr>
            <a:xfrm>
              <a:off x="5364000" y="93672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64000" y="72072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64000" y="115236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64000" y="136836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4000" y="158436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9640" y="16938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13440" y="692280"/>
            <a:ext cx="13669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index.i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4ad36ffe8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974daf34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2d34ff3e1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3310012a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  <a:ea typeface="HGS教科書体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164360" y="1052640"/>
            <a:ext cx="217440" cy="3025800"/>
            <a:chOff x="7164360" y="1052640"/>
            <a:chExt cx="217440" cy="3025800"/>
          </a:xfrm>
        </p:grpSpPr>
        <p:sp>
          <p:nvSpPr>
            <p:cNvPr id="484" name=""/>
            <p:cNvSpPr/>
            <p:nvPr/>
          </p:nvSpPr>
          <p:spPr>
            <a:xfrm>
              <a:off x="7164360" y="1052640"/>
              <a:ext cx="21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80360" y="1052640"/>
              <a:ext cx="144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64360" y="4076640"/>
              <a:ext cx="216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164360" y="1484280"/>
            <a:ext cx="290520" cy="3025800"/>
            <a:chOff x="7164360" y="1484280"/>
            <a:chExt cx="290520" cy="3025800"/>
          </a:xfrm>
        </p:grpSpPr>
        <p:sp>
          <p:nvSpPr>
            <p:cNvPr id="488" name=""/>
            <p:cNvSpPr/>
            <p:nvPr/>
          </p:nvSpPr>
          <p:spPr>
            <a:xfrm>
              <a:off x="7164360" y="1484280"/>
              <a:ext cx="289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3440" y="1484280"/>
              <a:ext cx="1440" cy="30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4360" y="4508640"/>
              <a:ext cx="289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7164360" y="1700280"/>
            <a:ext cx="361800" cy="3025800"/>
            <a:chOff x="7164360" y="1700280"/>
            <a:chExt cx="361800" cy="3025800"/>
          </a:xfrm>
        </p:grpSpPr>
        <p:sp>
          <p:nvSpPr>
            <p:cNvPr id="492" name=""/>
            <p:cNvSpPr/>
            <p:nvPr/>
          </p:nvSpPr>
          <p:spPr>
            <a:xfrm>
              <a:off x="7164360" y="1700280"/>
              <a:ext cx="36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24720" y="1700280"/>
              <a:ext cx="1440" cy="30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64360" y="4724280"/>
              <a:ext cx="360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8278920" y="407664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08720" y="907920"/>
            <a:ext cx="1150920" cy="12970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04000" y="2349360"/>
            <a:ext cx="1150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3300"/>
                </a:solidFill>
                <a:latin typeface="Times New Roman"/>
              </a:rPr>
              <a:t>Same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3300"/>
                </a:solidFill>
                <a:latin typeface="Times New Roman"/>
              </a:rPr>
              <a:t>Reusable for F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7236000" y="2419200"/>
            <a:ext cx="1223640" cy="1516320"/>
          </a:xfrm>
          <a:prstGeom prst="line">
            <a:avLst/>
          </a:prstGeom>
          <a:ln w="38160">
            <a:solidFill>
              <a:srgbClr val="fea4f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148360" y="3745080"/>
            <a:ext cx="2230200" cy="1414440"/>
            <a:chOff x="5148360" y="3745080"/>
            <a:chExt cx="2230200" cy="1414440"/>
          </a:xfrm>
        </p:grpSpPr>
        <p:sp>
          <p:nvSpPr>
            <p:cNvPr id="500" name=""/>
            <p:cNvSpPr/>
            <p:nvPr/>
          </p:nvSpPr>
          <p:spPr>
            <a:xfrm>
              <a:off x="5292720" y="424980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92720" y="381780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ff00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292720" y="403380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48360" y="479124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2000" y="3745080"/>
              <a:ext cx="1366560" cy="13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  <a:ea typeface="HGS教科書体"/>
                </a:rPr>
                <a:t>index.id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bbe0e3"/>
                  </a:solidFill>
                  <a:latin typeface="Times New Roman"/>
                  <a:ea typeface="HGS教科書体"/>
                </a:rPr>
                <a:t>4ad36ffe8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  <a:ea typeface="HGS教科書体"/>
                </a:rPr>
                <a:t>dd4daf34a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bbe0e3"/>
                  </a:solidFill>
                  <a:latin typeface="Times New Roman"/>
                  <a:ea typeface="HGS教科書体"/>
                </a:rPr>
                <a:t>2d34ff3e1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bbe0e3"/>
                  </a:solidFill>
                  <a:latin typeface="Times New Roman"/>
                  <a:ea typeface="HGS教科書体"/>
                </a:rPr>
                <a:t>3310012a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imes New Roman"/>
                  <a:ea typeface="HGS教科書体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92720" y="4465800"/>
              <a:ext cx="611280" cy="187200"/>
            </a:xfrm>
            <a:prstGeom prst="foldedCorner">
              <a:avLst>
                <a:gd name="adj" fmla="val 12500"/>
              </a:avLst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92720" y="4724280"/>
              <a:ext cx="611280" cy="187560"/>
            </a:xfrm>
            <a:prstGeom prst="foldedCorner">
              <a:avLst>
                <a:gd name="adj" fmla="val 12500"/>
              </a:avLst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4932360" y="0"/>
            <a:ext cx="1440" cy="685800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189000"/>
            <a:ext cx="720720" cy="144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59280" y="34920"/>
            <a:ext cx="158400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Times New Roman"/>
              </a:rPr>
              <a:t>CLOOP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4920"/>
            <a:ext cx="194292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Times New Roman"/>
              </a:rPr>
              <a:t>block file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3284640"/>
            <a:ext cx="1440" cy="7920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urpose of OS Cir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 Migration System for anonymous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t OSes on anonymous PC without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Z (Free Live OS Zoo) has same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oszoo.org/wiki/index.php/Free_Live_OS_Zo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EMU” runs OSes(Linux, Minix, Plan9, OpenSolaris, etc) on the server. The GUI is transferred by VNC on Client 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erver Centric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d response because the server exits in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est OS has no network service for security &amp;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S Circ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21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Circular is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lient Centric Syst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utilize virtualization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rtual Bootloader + Globalized Virtual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ient PC boots with the Virtual Bootloader and get OS images via Globalized Virtual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PC has powerful CPU, much Memory, and wide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prevents server bottleneck. The network is managed by the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images are maintained on the server and they are execute on a Client P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e idea is implemented on Collective[NSDI’05] and Internet Suspend/Resume[WMCSA’0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hat is differ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S Circular utilizes existing, in-expensive and popular Infra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rtual BootLo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1280" y="1557360"/>
            <a:ext cx="8893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Bootloader is consisted of “Virtual Machine software” and host OS which runs 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Machine offers an Abstraction Layer which offers a common PC environment on any P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Virtualization enables us to use normal installer and security management for Guest 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straction is used for OS mi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lPAD [Mobisys’05], VAT of Collective[NSDI’05], Internet Suspend/Resume[WMCSA’02 ] use VM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st OS supports real device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PPIX is used on SoulPAD and VAT of Collective, because KNOPPIX automatically detects available devices and loads the appropriate Linux driv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Xenoppix as Virtual Bootlo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61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enoppix (2005.0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= Xen + KNOPP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d Xenoppix uses Para-Virtualizaiton and runs Plan9 &amp; NetBSD. Current Xenoppix runs Para &amp; Ful Virtualiza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 Virtualzation of Xen “HVM” prepares a common PC environment on anonymous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VM requires virtualization instructions; Intel VT or AMD-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PPIX works on Domain0 of Xen (as the host O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en has no device drivers and utilize the drivers of the OS on Domain0.“Autoconfig” of KNOPPIX detects devices and setup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, Xen and KNOPPIX is the best marri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ized Virtual D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rtual Disk is Block Level Abst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quirement for globaliz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ial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ob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Wilde De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work/Storage Transparent for mobile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e network (dis/re)-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 itself should maintained by Security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disks have to keep validness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5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type of ver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persistent versio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o” of operations during OS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istent vers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llback” of OS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ed HTTP-FUSE CLOOP has same versioning of Venti[USENIX’02] of Plan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SHA-1 hash of the data acts as the address of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blocks are write once and aren’t removed. They make ideal for permanent or backup stor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fortunately Venti requires special protocol for file system and limits the scalabi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sted HTTP-FUSE CLOOP saves data blocks to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eature makes to utilize HTTP to distribut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ization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rtual disk are desired to be shared on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consider network latency and extensibility of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D, iSCSI and iFCP look fine, but they require special software on server. This feature prevents sca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y of Trusted HTTP-FUSE C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’t require special daemons and special ports on servers. The requirement is file distribution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World Wilde Deployment , utilize existing infrastruc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 hosting services, Mirror servers,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須崎有康</dc:creator>
  <dc:description/>
  <dc:language>en-US</dc:language>
  <cp:lastModifiedBy>須崎有康</cp:lastModifiedBy>
  <cp:revision>0</cp:revision>
  <dc:subject/>
  <dc:title>OS Circulation environment  “Trusted HTTP-FUSE Xenoppix” </dc:title>
</cp:coreProperties>
</file>