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104-605E-448D-BB8C-70F7EB0E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4D4-E951-42D5-9C1B-5CDF5975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D55-F8D4-4E25-96CC-13CA543C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7F5-E874-4EF0-8C75-FB9AB696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209-271E-4FBB-A7A1-D41390C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95E-A569-40BA-9940-0C3FDF82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38B-F2D2-49ED-A994-8F4B596E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36C-B33B-4215-ACA6-C8D8729C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4D2-77A8-4852-B06D-3E832C4F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6AB-F6F5-4C6D-BFAC-264BCBF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54F-F68C-401A-90C6-7610E39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600-1BAE-4CD5-BEE0-EB47CBC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952EF8-013F-41A4-8A30-56ED47724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use.sf.net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tion environment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Trusted HTTP-FUSE Xenoppix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492280"/>
            <a:ext cx="8529480" cy="42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http-fuse/index-en.ht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xen/index-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niyas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zak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Toshiki Yag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Kengo Iijim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chi Tsukamot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egumi Nakamur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eiji Munetoh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Institute of Advanced Industrial Scienc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to consider dis-connection of network for mobile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lessLinux of RHEL5 takes snapshot on a local storage as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cks of Trusted HTTP-FUSE CLOOP are cached on a local sto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pplications don’t access extra blocks, it works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ally security management is independent of virtual disk, because security of OS should be managed by security software or package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mmitment of virtual disk is to keep uncontaminated con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ed HTTP-FUSE CLOOP check the validness of contents when it mapped to a virtual d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block device is split by 256KB and  compressed by zlib. Each data is saved to a block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managed by “index” file which works as a header of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 name is a SHA1 value of its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a same contests blocks, they are held together a same name file and </a:t>
            </a: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reduce total file sp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c idea is resemble to “Venti of Plan9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reconstructed to a CLOOP file by FUSE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SE is a User-land Fil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use.sf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 block file is measured with the SHA1 file name when it mapped to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file is updated or created on an original block device, the relevant block files are newly created with new SHA1 name. The “index” file are also ren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block files are reu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 for file 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opular and well des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is in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 port is usually o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network block devices use special port which is  usually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network/storage transpa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lock files are cached and reused on local storag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ecessary block files are stored in a local storage, network connection is not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00280"/>
            <a:ext cx="2050920" cy="3673440"/>
          </a:xfrm>
          <a:prstGeom prst="rect">
            <a:avLst/>
          </a:prstGeom>
          <a:solidFill>
            <a:srgbClr val="3366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44720"/>
            <a:ext cx="143964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268280"/>
            <a:ext cx="1800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2232000"/>
            <a:ext cx="865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56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537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0920" y="2232000"/>
            <a:ext cx="1439640" cy="1728720"/>
            <a:chOff x="250920" y="2232000"/>
            <a:chExt cx="1439640" cy="1728720"/>
          </a:xfrm>
        </p:grpSpPr>
        <p:sp>
          <p:nvSpPr>
            <p:cNvPr id="73" name=""/>
            <p:cNvSpPr/>
            <p:nvPr/>
          </p:nvSpPr>
          <p:spPr>
            <a:xfrm>
              <a:off x="250920" y="22320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20" y="251928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0920" y="280656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30956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920" y="338292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0920" y="36702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9592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15880" y="19432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920" y="22208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6680000">
            <a:off x="1050840" y="2153880"/>
            <a:ext cx="1011240" cy="52992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720 h 529920"/>
              <a:gd name="textAreaBottom" fmla="*/ 264960 h 52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4340000">
            <a:off x="945000" y="178704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76560" y="2669400"/>
            <a:ext cx="566640" cy="1152360"/>
            <a:chOff x="1276560" y="2669400"/>
            <a:chExt cx="566640" cy="1152360"/>
          </a:xfrm>
        </p:grpSpPr>
        <p:sp>
          <p:nvSpPr>
            <p:cNvPr id="85" name=""/>
            <p:cNvSpPr/>
            <p:nvPr/>
          </p:nvSpPr>
          <p:spPr>
            <a:xfrm flipH="1" flipV="1" rot="16680000">
              <a:off x="1088640" y="3105000"/>
              <a:ext cx="943560" cy="438120"/>
            </a:xfrm>
            <a:custGeom>
              <a:avLst/>
              <a:gdLst>
                <a:gd name="textAreaLeft" fmla="*/ 346320 w 943560"/>
                <a:gd name="textAreaRight" fmla="*/ 805320 w 943560"/>
                <a:gd name="textAreaTop" fmla="*/ -360 h 438120"/>
                <a:gd name="textAreaBottom" fmla="*/ 218520 h 4381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4920000">
              <a:off x="1090800" y="294336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294200" y="3546000"/>
            <a:ext cx="536760" cy="975240"/>
            <a:chOff x="1294200" y="3546000"/>
            <a:chExt cx="536760" cy="975240"/>
          </a:xfrm>
        </p:grpSpPr>
        <p:sp>
          <p:nvSpPr>
            <p:cNvPr id="88" name=""/>
            <p:cNvSpPr/>
            <p:nvPr/>
          </p:nvSpPr>
          <p:spPr>
            <a:xfrm flipH="1" flipV="1" rot="16680000">
              <a:off x="1164600" y="388152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4920000">
              <a:off x="1166400" y="375228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90560" y="194472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0560" y="2405160"/>
            <a:ext cx="1024200" cy="40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90560" y="265536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90560" y="290304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448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816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017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2189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97316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405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2620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2836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557360"/>
            <a:ext cx="26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dex and 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946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916280"/>
            <a:ext cx="13665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852640"/>
            <a:ext cx="79236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3284640"/>
            <a:ext cx="3024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block files are re-constructed as a virtual disk with HTTP-FUSE 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4149720"/>
            <a:ext cx="1656000" cy="574560"/>
          </a:xfrm>
          <a:prstGeom prst="wedgeRoundRectCallout">
            <a:avLst>
              <a:gd name="adj1" fmla="val -36768"/>
              <a:gd name="adj2" fmla="val -14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re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y z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78160" y="1916280"/>
            <a:ext cx="1008000" cy="1800000"/>
          </a:xfrm>
          <a:prstGeom prst="ellipse">
            <a:avLst/>
          </a:prstGeom>
          <a:noFill/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11280" y="981000"/>
            <a:ext cx="75960" cy="489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68400" y="1916280"/>
            <a:ext cx="2089440" cy="1657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233440"/>
            <a:ext cx="611280" cy="18756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9240" y="201780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665440"/>
            <a:ext cx="611280" cy="18720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2252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680" y="2233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6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680" y="2665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9680" y="134136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ents 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60" y="2990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9240" y="2565360"/>
            <a:ext cx="576360" cy="1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78160" y="3933720"/>
            <a:ext cx="180000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Each block fie is measured with its file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a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1280" y="1944720"/>
            <a:ext cx="718920" cy="216000"/>
          </a:xfrm>
          <a:prstGeom prst="rect">
            <a:avLst/>
          </a:prstGeom>
          <a:solidFill>
            <a:srgbClr val="ff6600">
              <a:alpha val="4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5527080" y="237168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463720" y="261936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17760" y="3152880"/>
            <a:ext cx="880920" cy="336600"/>
            <a:chOff x="5117760" y="3152880"/>
            <a:chExt cx="880920" cy="336600"/>
          </a:xfrm>
        </p:grpSpPr>
        <p:sp>
          <p:nvSpPr>
            <p:cNvPr id="127" name=""/>
            <p:cNvSpPr/>
            <p:nvPr/>
          </p:nvSpPr>
          <p:spPr>
            <a:xfrm rot="5400000">
              <a:off x="5505840" y="2828160"/>
              <a:ext cx="168120" cy="817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5442120" y="2996280"/>
              <a:ext cx="168480" cy="8175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5592960" y="187704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5529600" y="212472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1944720"/>
            <a:ext cx="21600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38520" y="1341360"/>
            <a:ext cx="25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(700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1268280"/>
            <a:ext cx="2592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opback(2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# losetup /dev/C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4619520"/>
            <a:ext cx="57636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99280" y="3816360"/>
            <a:ext cx="9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4248000"/>
            <a:ext cx="86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che 64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2016000"/>
            <a:ext cx="503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307280" y="1944720"/>
            <a:ext cx="1160280" cy="2887560"/>
            <a:chOff x="7307280" y="1944720"/>
            <a:chExt cx="1160280" cy="2887560"/>
          </a:xfrm>
        </p:grpSpPr>
        <p:sp>
          <p:nvSpPr>
            <p:cNvPr id="139" name=""/>
            <p:cNvSpPr/>
            <p:nvPr/>
          </p:nvSpPr>
          <p:spPr>
            <a:xfrm>
              <a:off x="7307280" y="1944720"/>
              <a:ext cx="1119240" cy="26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6640" y="446400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308720" y="2233440"/>
              <a:ext cx="1119240" cy="1729080"/>
              <a:chOff x="7308720" y="2233440"/>
              <a:chExt cx="1119240" cy="1729080"/>
            </a:xfrm>
          </p:grpSpPr>
          <p:sp>
            <p:nvSpPr>
              <p:cNvPr id="142" name=""/>
              <p:cNvSpPr/>
              <p:nvPr/>
            </p:nvSpPr>
            <p:spPr>
              <a:xfrm>
                <a:off x="7308720" y="223344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08720" y="25210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08720" y="280836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08720" y="30970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08720" y="338472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08720" y="36720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08720" y="396072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527960" y="194472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8640" y="222264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7280" y="3095640"/>
              <a:ext cx="11192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72040" y="2406600"/>
            <a:ext cx="1335240" cy="40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2664000"/>
            <a:ext cx="1440000" cy="100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2879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72680" y="3241800"/>
            <a:ext cx="576000" cy="71280"/>
          </a:xfrm>
          <a:prstGeom prst="leftArrow">
            <a:avLst>
              <a:gd name="adj1" fmla="val 50000"/>
              <a:gd name="adj2" fmla="val 202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47530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9942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96000" y="2592360"/>
            <a:ext cx="647640" cy="2235240"/>
            <a:chOff x="5796000" y="2592360"/>
            <a:chExt cx="647640" cy="2235240"/>
          </a:xfrm>
        </p:grpSpPr>
        <p:sp>
          <p:nvSpPr>
            <p:cNvPr id="159" name=""/>
            <p:cNvSpPr/>
            <p:nvPr/>
          </p:nvSpPr>
          <p:spPr>
            <a:xfrm>
              <a:off x="5796000" y="2592360"/>
              <a:ext cx="2746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0680" y="2592360"/>
              <a:ext cx="1440" cy="2233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0680" y="4826160"/>
              <a:ext cx="37296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64000" y="4968720"/>
            <a:ext cx="10796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decom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20000" y="3240000"/>
            <a:ext cx="287280" cy="1730520"/>
            <a:chOff x="7020000" y="3240000"/>
            <a:chExt cx="287280" cy="1730520"/>
          </a:xfrm>
        </p:grpSpPr>
        <p:sp>
          <p:nvSpPr>
            <p:cNvPr id="164" name=""/>
            <p:cNvSpPr/>
            <p:nvPr/>
          </p:nvSpPr>
          <p:spPr>
            <a:xfrm>
              <a:off x="7164360" y="3240000"/>
              <a:ext cx="1440" cy="1728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20000" y="4968720"/>
              <a:ext cx="1443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4360" y="3240000"/>
              <a:ext cx="14292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020000" y="496872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897440"/>
            <a:ext cx="576360" cy="1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95960" y="1944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6880" y="3887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06880" y="2089080"/>
            <a:ext cx="1152360" cy="1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273672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0880" y="1484280"/>
            <a:ext cx="1657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tmp/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59240" y="17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79960" y="1992240"/>
            <a:ext cx="8654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(location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240" y="1916280"/>
            <a:ext cx="13669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19240" y="2997360"/>
            <a:ext cx="57636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881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765000"/>
            <a:ext cx="1225440" cy="432000"/>
          </a:xfrm>
          <a:prstGeom prst="wedgeRoundRectCallout">
            <a:avLst>
              <a:gd name="adj1" fmla="val -47796"/>
              <a:gd name="adj2" fmla="val 193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16320" y="2492280"/>
            <a:ext cx="1942920" cy="18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14880" y="2924280"/>
            <a:ext cx="1942920" cy="14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234936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072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476280"/>
            <a:ext cx="1800360" cy="2376360"/>
          </a:xfrm>
          <a:custGeom>
            <a:avLst/>
            <a:gdLst>
              <a:gd name="textAreaLeft" fmla="*/ 46800 w 1800360"/>
              <a:gd name="textAreaRight" fmla="*/ 1753560 w 1800360"/>
              <a:gd name="textAreaTop" fmla="*/ 46800 h 2376360"/>
              <a:gd name="textAreaBottom" fmla="*/ 2329560 h 2376360"/>
            </a:gdLst>
            <a:ahLst/>
            <a:rect l="textAreaLeft" t="textAreaTop" r="textAreaRight" b="textAreaBottom"/>
            <a:pathLst>
              <a:path w="21600" h="28509">
                <a:moveTo>
                  <a:pt x="1931" y="0"/>
                </a:moveTo>
                <a:arcTo wR="1931" hR="1931" stAng="16200000" swAng="-5400000"/>
                <a:lnTo>
                  <a:pt x="0" y="26578"/>
                </a:lnTo>
                <a:arcTo wR="1931" hR="1931" stAng="10800000" swAng="-5400000"/>
                <a:lnTo>
                  <a:pt x="19669" y="28509"/>
                </a:lnTo>
                <a:arcTo wR="1931" hR="1931" stAng="5400000" swAng="-5400000"/>
                <a:lnTo>
                  <a:pt x="21600" y="1931"/>
                </a:lnTo>
                <a:arcTo wR="1931" hR="193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2720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612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720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148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5612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23048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8948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376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8948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60360"/>
            <a:ext cx="1944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che file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936720"/>
            <a:ext cx="1800360" cy="155556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8320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1176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7480" y="198900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5480" y="155736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196200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9810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042920" y="1557360"/>
            <a:ext cx="650880" cy="719280"/>
            <a:chOff x="1042920" y="1557360"/>
            <a:chExt cx="650880" cy="719280"/>
          </a:xfrm>
        </p:grpSpPr>
        <p:sp>
          <p:nvSpPr>
            <p:cNvPr id="207" name=""/>
            <p:cNvSpPr/>
            <p:nvPr/>
          </p:nvSpPr>
          <p:spPr>
            <a:xfrm>
              <a:off x="1042920" y="1557360"/>
              <a:ext cx="650880" cy="719280"/>
            </a:xfrm>
            <a:custGeom>
              <a:avLst/>
              <a:gdLst>
                <a:gd name="textAreaLeft" fmla="*/ 360 w 650880"/>
                <a:gd name="textAreaRight" fmla="*/ 650520 w 650880"/>
                <a:gd name="textAreaTop" fmla="*/ 360 h 719280"/>
                <a:gd name="textAreaBottom" fmla="*/ 718920 h 719280"/>
              </a:gdLst>
              <a:ahLst/>
              <a:rect l="textAreaLeft" t="textAreaTop" r="textAreaRight" b="textAreaBottom"/>
              <a:pathLst>
                <a:path w="21600" h="23869">
                  <a:moveTo>
                    <a:pt x="52" y="0"/>
                  </a:moveTo>
                  <a:arcTo wR="52" hR="52" stAng="16200000" swAng="-5400000"/>
                  <a:lnTo>
                    <a:pt x="0" y="23817"/>
                  </a:lnTo>
                  <a:arcTo wR="52" hR="52" stAng="10800000" swAng="-5400000"/>
                  <a:lnTo>
                    <a:pt x="21548" y="23869"/>
                  </a:lnTo>
                  <a:arcTo wR="52" hR="52" stAng="5400000" swAng="-5400000"/>
                  <a:lnTo>
                    <a:pt x="21600" y="52"/>
                  </a:lnTo>
                  <a:arcTo wR="52" hR="5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54080" y="1670040"/>
              <a:ext cx="627120" cy="590400"/>
            </a:xfrm>
            <a:custGeom>
              <a:avLst/>
              <a:gdLst/>
              <a:ahLst/>
              <a:rect l="l" t="t" r="r" b="b"/>
              <a:pathLst>
                <a:path w="3325" h="2677">
                  <a:moveTo>
                    <a:pt x="3325" y="2169"/>
                  </a:moveTo>
                  <a:lnTo>
                    <a:pt x="3290" y="2271"/>
                  </a:lnTo>
                  <a:lnTo>
                    <a:pt x="3193" y="2366"/>
                  </a:lnTo>
                  <a:lnTo>
                    <a:pt x="3039" y="2452"/>
                  </a:lnTo>
                  <a:lnTo>
                    <a:pt x="2837" y="2528"/>
                  </a:lnTo>
                  <a:lnTo>
                    <a:pt x="2590" y="2590"/>
                  </a:lnTo>
                  <a:lnTo>
                    <a:pt x="2308" y="2637"/>
                  </a:lnTo>
                  <a:lnTo>
                    <a:pt x="1995" y="2667"/>
                  </a:lnTo>
                  <a:lnTo>
                    <a:pt x="1662" y="2677"/>
                  </a:lnTo>
                  <a:lnTo>
                    <a:pt x="1326" y="2667"/>
                  </a:lnTo>
                  <a:lnTo>
                    <a:pt x="1014" y="2637"/>
                  </a:lnTo>
                  <a:lnTo>
                    <a:pt x="732" y="2590"/>
                  </a:lnTo>
                  <a:lnTo>
                    <a:pt x="486" y="2528"/>
                  </a:lnTo>
                  <a:lnTo>
                    <a:pt x="282" y="2452"/>
                  </a:lnTo>
                  <a:lnTo>
                    <a:pt x="129" y="2366"/>
                  </a:lnTo>
                  <a:lnTo>
                    <a:pt x="33" y="2271"/>
                  </a:lnTo>
                  <a:lnTo>
                    <a:pt x="0" y="2169"/>
                  </a:lnTo>
                  <a:lnTo>
                    <a:pt x="0" y="0"/>
                  </a:lnTo>
                  <a:lnTo>
                    <a:pt x="3325" y="0"/>
                  </a:lnTo>
                  <a:lnTo>
                    <a:pt x="3325" y="2169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4080" y="1558800"/>
              <a:ext cx="627120" cy="223920"/>
            </a:xfrm>
            <a:custGeom>
              <a:avLst/>
              <a:gdLst/>
              <a:ahLst/>
              <a:rect l="l" t="t" r="r" b="b"/>
              <a:pathLst>
                <a:path w="3325" h="1013">
                  <a:moveTo>
                    <a:pt x="1662" y="0"/>
                  </a:moveTo>
                  <a:lnTo>
                    <a:pt x="1326" y="9"/>
                  </a:lnTo>
                  <a:lnTo>
                    <a:pt x="1014" y="39"/>
                  </a:lnTo>
                  <a:lnTo>
                    <a:pt x="732" y="85"/>
                  </a:lnTo>
                  <a:lnTo>
                    <a:pt x="486" y="148"/>
                  </a:lnTo>
                  <a:lnTo>
                    <a:pt x="282" y="222"/>
                  </a:lnTo>
                  <a:lnTo>
                    <a:pt x="129" y="309"/>
                  </a:lnTo>
                  <a:lnTo>
                    <a:pt x="33" y="404"/>
                  </a:lnTo>
                  <a:lnTo>
                    <a:pt x="0" y="507"/>
                  </a:lnTo>
                  <a:lnTo>
                    <a:pt x="33" y="608"/>
                  </a:lnTo>
                  <a:lnTo>
                    <a:pt x="129" y="703"/>
                  </a:lnTo>
                  <a:lnTo>
                    <a:pt x="282" y="788"/>
                  </a:lnTo>
                  <a:lnTo>
                    <a:pt x="486" y="864"/>
                  </a:lnTo>
                  <a:lnTo>
                    <a:pt x="732" y="925"/>
                  </a:lnTo>
                  <a:lnTo>
                    <a:pt x="1014" y="972"/>
                  </a:lnTo>
                  <a:lnTo>
                    <a:pt x="1326" y="1002"/>
                  </a:lnTo>
                  <a:lnTo>
                    <a:pt x="1662" y="1013"/>
                  </a:lnTo>
                  <a:lnTo>
                    <a:pt x="1995" y="1002"/>
                  </a:lnTo>
                  <a:lnTo>
                    <a:pt x="2308" y="972"/>
                  </a:lnTo>
                  <a:lnTo>
                    <a:pt x="2590" y="925"/>
                  </a:lnTo>
                  <a:lnTo>
                    <a:pt x="2837" y="864"/>
                  </a:lnTo>
                  <a:lnTo>
                    <a:pt x="3039" y="788"/>
                  </a:lnTo>
                  <a:lnTo>
                    <a:pt x="3193" y="703"/>
                  </a:lnTo>
                  <a:lnTo>
                    <a:pt x="3290" y="608"/>
                  </a:lnTo>
                  <a:lnTo>
                    <a:pt x="3325" y="507"/>
                  </a:lnTo>
                  <a:lnTo>
                    <a:pt x="3290" y="404"/>
                  </a:lnTo>
                  <a:lnTo>
                    <a:pt x="3193" y="309"/>
                  </a:lnTo>
                  <a:lnTo>
                    <a:pt x="3039" y="222"/>
                  </a:lnTo>
                  <a:lnTo>
                    <a:pt x="2837" y="148"/>
                  </a:lnTo>
                  <a:lnTo>
                    <a:pt x="2590" y="85"/>
                  </a:lnTo>
                  <a:lnTo>
                    <a:pt x="2308" y="39"/>
                  </a:lnTo>
                  <a:lnTo>
                    <a:pt x="1995" y="9"/>
                  </a:lnTo>
                  <a:lnTo>
                    <a:pt x="1662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870680" y="1989000"/>
            <a:ext cx="1243080" cy="132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906480" cy="1050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667640" y="14130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280" y="2349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Virtualized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54936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ex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83664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3200" y="1125360"/>
            <a:ext cx="262080" cy="360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1700280"/>
            <a:ext cx="615960" cy="341280"/>
          </a:xfrm>
          <a:prstGeom prst="rightArrow">
            <a:avLst>
              <a:gd name="adj1" fmla="val 50000"/>
              <a:gd name="adj2" fmla="val 451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5002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5080" y="32068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172360" y="4869000"/>
            <a:ext cx="630360" cy="1268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835760" y="60213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4394160"/>
            <a:ext cx="1800000" cy="155592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643280" y="2563560"/>
            <a:ext cx="3097440" cy="3618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2997360"/>
            <a:ext cx="3097440" cy="12952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565360"/>
            <a:ext cx="1960560" cy="1224000"/>
          </a:xfrm>
          <a:prstGeom prst="cloudCallout">
            <a:avLst>
              <a:gd name="adj1" fmla="val 40930"/>
              <a:gd name="adj2" fmla="val -3106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42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4000" y="476280"/>
            <a:ext cx="1721880" cy="1584360"/>
            <a:chOff x="324000" y="476280"/>
            <a:chExt cx="1721880" cy="1584360"/>
          </a:xfrm>
        </p:grpSpPr>
        <p:sp>
          <p:nvSpPr>
            <p:cNvPr id="228" name=""/>
            <p:cNvSpPr/>
            <p:nvPr/>
          </p:nvSpPr>
          <p:spPr>
            <a:xfrm>
              <a:off x="324000" y="47628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360" y="4762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Secur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8920" y="1916280"/>
              <a:ext cx="288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0960" y="3357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ter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63640" y="620640"/>
            <a:ext cx="3867120" cy="3681360"/>
            <a:chOff x="1763640" y="620640"/>
            <a:chExt cx="3867120" cy="3681360"/>
          </a:xfrm>
        </p:grpSpPr>
        <p:sp>
          <p:nvSpPr>
            <p:cNvPr id="233" name=""/>
            <p:cNvSpPr/>
            <p:nvPr/>
          </p:nvSpPr>
          <p:spPr>
            <a:xfrm>
              <a:off x="252720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148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56120" y="23749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0280" y="83664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63640" y="393372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Block 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24360" y="6206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Index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40000" y="2779200"/>
              <a:ext cx="503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1280" y="2276640"/>
              <a:ext cx="1152720" cy="64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201840" y="836640"/>
              <a:ext cx="7956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 rot="5400000">
            <a:off x="762120" y="2056320"/>
            <a:ext cx="563760" cy="2016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7812000" y="4149720"/>
            <a:ext cx="906480" cy="10508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564000" y="4292640"/>
            <a:ext cx="4149720" cy="1514520"/>
            <a:chOff x="3564000" y="4292640"/>
            <a:chExt cx="4149720" cy="1514520"/>
          </a:xfrm>
        </p:grpSpPr>
        <p:sp>
          <p:nvSpPr>
            <p:cNvPr id="245" name=""/>
            <p:cNvSpPr/>
            <p:nvPr/>
          </p:nvSpPr>
          <p:spPr>
            <a:xfrm>
              <a:off x="6127920" y="5014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2200" y="5446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360" y="501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51640" y="54198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73920" y="54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2720" y="4941720"/>
              <a:ext cx="7189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64000" y="4292640"/>
              <a:ext cx="3168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32360" y="981000"/>
            <a:ext cx="2877480" cy="3962520"/>
            <a:chOff x="4932360" y="981000"/>
            <a:chExt cx="2877480" cy="3962520"/>
          </a:xfrm>
        </p:grpSpPr>
        <p:sp>
          <p:nvSpPr>
            <p:cNvPr id="253" name=""/>
            <p:cNvSpPr/>
            <p:nvPr/>
          </p:nvSpPr>
          <p:spPr>
            <a:xfrm>
              <a:off x="6127920" y="45831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2360" y="981000"/>
              <a:ext cx="12240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0160" y="450864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Update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ak point of HTTP-FUSE C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-FUSE CLOOP is Vulnerable for 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demand &amp; small data request makes narrow bandwidth on long la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nearest one among candidates dowonload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n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 download necessary block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Find near download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6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Client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net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select measures the latency of candidate servers and finds neares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worldvisions.ca/~apenwarr/netselec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Server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NS-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-Balance is a name resolver which suggests near candidate servers 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ith routing information offered by RAD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openlab.jp/dns_balance/dns_balanc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OS Cir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“Xenopp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ed Virtual Disk “HTTP-FUSE CLO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44360" y="1413000"/>
            <a:ext cx="8675640" cy="4824360"/>
            <a:chOff x="144360" y="1413000"/>
            <a:chExt cx="8675640" cy="4824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44360" y="1413000"/>
              <a:ext cx="5462640" cy="45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5737320" y="1679400"/>
              <a:ext cx="308268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1042920" y="2708280"/>
            <a:ext cx="3313080" cy="289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2852640"/>
            <a:ext cx="3168720" cy="28908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836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ect.inetboot.ne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rte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2997360"/>
            <a:ext cx="2808000" cy="14436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3141720"/>
            <a:ext cx="2808360" cy="144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306864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5300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3284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33577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8000" y="4292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342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0360" y="3141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277956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328464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80360" y="3357720"/>
            <a:ext cx="17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33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69228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9810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260280"/>
            <a:ext cx="42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 server for HTTP-FUSE Xenopp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server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32130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NS-ban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969480" y="2706480"/>
            <a:ext cx="219240" cy="363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93080" y="3282840"/>
            <a:ext cx="28728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10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S-Bal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24000" y="3573360"/>
            <a:ext cx="406080" cy="505080"/>
            <a:chOff x="324000" y="3573360"/>
            <a:chExt cx="406080" cy="505080"/>
          </a:xfrm>
        </p:grpSpPr>
        <p:sp>
          <p:nvSpPr>
            <p:cNvPr id="289" name=""/>
            <p:cNvSpPr/>
            <p:nvPr/>
          </p:nvSpPr>
          <p:spPr>
            <a:xfrm>
              <a:off x="468360" y="35733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528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00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572000" y="1197000"/>
            <a:ext cx="406440" cy="504720"/>
            <a:chOff x="4572000" y="1197000"/>
            <a:chExt cx="406440" cy="504720"/>
          </a:xfrm>
        </p:grpSpPr>
        <p:sp>
          <p:nvSpPr>
            <p:cNvPr id="293" name=""/>
            <p:cNvSpPr/>
            <p:nvPr/>
          </p:nvSpPr>
          <p:spPr>
            <a:xfrm>
              <a:off x="4716360" y="119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3280" y="1270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134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87640" y="4437000"/>
            <a:ext cx="406440" cy="504720"/>
            <a:chOff x="2987640" y="4437000"/>
            <a:chExt cx="406440" cy="504720"/>
          </a:xfrm>
        </p:grpSpPr>
        <p:sp>
          <p:nvSpPr>
            <p:cNvPr id="297" name=""/>
            <p:cNvSpPr/>
            <p:nvPr/>
          </p:nvSpPr>
          <p:spPr>
            <a:xfrm>
              <a:off x="3132000" y="443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59280" y="4510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7640" y="458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84720" y="3500280"/>
            <a:ext cx="406440" cy="505080"/>
            <a:chOff x="6084720" y="3500280"/>
            <a:chExt cx="406440" cy="505080"/>
          </a:xfrm>
        </p:grpSpPr>
        <p:sp>
          <p:nvSpPr>
            <p:cNvPr id="301" name=""/>
            <p:cNvSpPr/>
            <p:nvPr/>
          </p:nvSpPr>
          <p:spPr>
            <a:xfrm>
              <a:off x="6229440" y="35002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636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4720" y="36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0" y="2349360"/>
            <a:ext cx="406440" cy="505080"/>
            <a:chOff x="4572000" y="2349360"/>
            <a:chExt cx="406440" cy="505080"/>
          </a:xfrm>
        </p:grpSpPr>
        <p:sp>
          <p:nvSpPr>
            <p:cNvPr id="305" name=""/>
            <p:cNvSpPr/>
            <p:nvPr/>
          </p:nvSpPr>
          <p:spPr>
            <a:xfrm>
              <a:off x="4716360" y="2349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3280" y="2422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0" y="2494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00720" y="5445000"/>
            <a:ext cx="406080" cy="505080"/>
            <a:chOff x="4500720" y="5445000"/>
            <a:chExt cx="406080" cy="505080"/>
          </a:xfrm>
        </p:grpSpPr>
        <p:sp>
          <p:nvSpPr>
            <p:cNvPr id="309" name=""/>
            <p:cNvSpPr/>
            <p:nvPr/>
          </p:nvSpPr>
          <p:spPr>
            <a:xfrm>
              <a:off x="4645080" y="54450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5518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00720" y="55897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732720" y="3573360"/>
            <a:ext cx="406440" cy="505080"/>
            <a:chOff x="6732720" y="3573360"/>
            <a:chExt cx="406440" cy="505080"/>
          </a:xfrm>
        </p:grpSpPr>
        <p:sp>
          <p:nvSpPr>
            <p:cNvPr id="313" name=""/>
            <p:cNvSpPr/>
            <p:nvPr/>
          </p:nvSpPr>
          <p:spPr>
            <a:xfrm>
              <a:off x="687708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400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272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580000" y="5465880"/>
            <a:ext cx="2089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outing ASSET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6000" y="5033880"/>
            <a:ext cx="4316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3645000"/>
            <a:ext cx="792360" cy="1366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3716280"/>
            <a:ext cx="792360" cy="13874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4292640"/>
            <a:ext cx="22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SK the nearest serv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select.inetbo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800000">
            <a:off x="743040" y="2314440"/>
            <a:ext cx="57600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1000000">
            <a:off x="6804000" y="3139560"/>
            <a:ext cx="86220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(Multiple download conn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LAHEAD (DownLoad A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profile of downloaded block files at boot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ock files are downloaded in advance with extra download connections. (Default is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Effective and 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ID using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rroring(RAID1) virtual block device makes fault tolerant and broadband with multiple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Status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enoppix (Xen 3.0.3 + KNOPPIX 5.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-FUSE C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up script for OS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mages is obtained by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GNU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updated with “apt-get”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HTTP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Hosting Service is reason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GB/ mount from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2104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e OS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vPro, LUCOS[VEE’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plan to  integrate IDS and IPS on OS Cir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kTap of Xen [USENIX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offers an interface of software device “BlkT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make an offload engine of Trusted HTTP-FUSE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Circular is Client Centric OS Migration System which is consisted of Virtual Bootloader “Xenoppix” and Global Virtual Disk “Trusted HTTP-FUSE CLOOP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urrent target OSes are Debian GNU/Linux and FreeBS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ian is updated by “apt-get”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ope OS Circular easy-to-try O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411280" y="5084640"/>
            <a:ext cx="6481800" cy="1513080"/>
          </a:xfrm>
          <a:prstGeom prst="rect">
            <a:avLst/>
          </a:prstGeom>
          <a:solidFill>
            <a:srgbClr val="bbe0e3">
              <a:alpha val="3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5583240"/>
            <a:ext cx="2025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pback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-324000" y="3068640"/>
            <a:ext cx="1306800" cy="1454040"/>
            <a:chOff x="-324000" y="3068640"/>
            <a:chExt cx="1306800" cy="1454040"/>
          </a:xfrm>
        </p:grpSpPr>
        <p:sp>
          <p:nvSpPr>
            <p:cNvPr id="337" name=""/>
            <p:cNvSpPr/>
            <p:nvPr/>
          </p:nvSpPr>
          <p:spPr>
            <a:xfrm>
              <a:off x="-324000" y="3068640"/>
              <a:ext cx="1306800" cy="14540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-203040" y="3390840"/>
              <a:ext cx="969840" cy="9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3862440" y="5195880"/>
            <a:ext cx="2160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67520" y="-2430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0424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3588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9916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4033800"/>
            <a:ext cx="1370160" cy="1266840"/>
          </a:xfrm>
          <a:custGeom>
            <a:avLst/>
            <a:gdLst/>
            <a:ahLst/>
            <a:rect l="l" t="t" r="r" b="b"/>
            <a:pathLst>
              <a:path w="2457" h="798">
                <a:moveTo>
                  <a:pt x="2457" y="0"/>
                </a:moveTo>
                <a:lnTo>
                  <a:pt x="2439" y="798"/>
                </a:lnTo>
                <a:lnTo>
                  <a:pt x="13" y="798"/>
                </a:lnTo>
                <a:lnTo>
                  <a:pt x="0" y="2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4073400"/>
            <a:ext cx="1658880" cy="1366920"/>
          </a:xfrm>
          <a:custGeom>
            <a:avLst/>
            <a:gdLst/>
            <a:ahLst/>
            <a:rect l="l" t="t" r="r" b="b"/>
            <a:pathLst>
              <a:path w="2684" h="861">
                <a:moveTo>
                  <a:pt x="2684" y="0"/>
                </a:moveTo>
                <a:lnTo>
                  <a:pt x="2664" y="861"/>
                </a:lnTo>
                <a:lnTo>
                  <a:pt x="14" y="861"/>
                </a:lnTo>
                <a:lnTo>
                  <a:pt x="0" y="3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5157720"/>
            <a:ext cx="1079280" cy="46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4080" y="51958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973080" y="249228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vdisk/vdis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" y="50515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620640"/>
            <a:ext cx="6697800" cy="5545080"/>
          </a:xfrm>
          <a:custGeom>
            <a:avLst/>
            <a:gdLst/>
            <a:ahLst/>
            <a:rect l="l" t="t" r="r" b="b"/>
            <a:pathLst>
              <a:path w="4003" h="2970">
                <a:moveTo>
                  <a:pt x="4003" y="0"/>
                </a:moveTo>
                <a:lnTo>
                  <a:pt x="3974" y="2970"/>
                </a:lnTo>
                <a:lnTo>
                  <a:pt x="22" y="2970"/>
                </a:lnTo>
                <a:lnTo>
                  <a:pt x="0" y="21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620640"/>
            <a:ext cx="7201080" cy="5761080"/>
          </a:xfrm>
          <a:custGeom>
            <a:avLst/>
            <a:gdLst/>
            <a:ahLst/>
            <a:rect l="l" t="t" r="r" b="b"/>
            <a:pathLst>
              <a:path w="4305" h="3084">
                <a:moveTo>
                  <a:pt x="4305" y="0"/>
                </a:moveTo>
                <a:lnTo>
                  <a:pt x="4274" y="3084"/>
                </a:lnTo>
                <a:lnTo>
                  <a:pt x="20" y="3084"/>
                </a:lnTo>
                <a:lnTo>
                  <a:pt x="0" y="20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59520" y="137952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tmp/blocks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＊＊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1224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54388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07160" y="18828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70800" y="44751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i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70800" y="38275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27880" y="32511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se-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99160" y="9079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43880" y="605952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1116000" y="465300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895320" y="5157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67320" y="46080"/>
            <a:ext cx="1960560" cy="649080"/>
          </a:xfrm>
          <a:prstGeom prst="cloudCallout">
            <a:avLst>
              <a:gd name="adj1" fmla="val 33078"/>
              <a:gd name="adj2" fmla="val -30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30440" y="651816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nstract CLOOP file from block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813800" y="5229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69080" y="42926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 De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6000" y="2637000"/>
            <a:ext cx="1223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ry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8360" y="2492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asure each block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0000" y="2349360"/>
            <a:ext cx="45370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101080" y="321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72360" y="3789360"/>
            <a:ext cx="1584360" cy="719280"/>
          </a:xfrm>
          <a:prstGeom prst="wedgeRoundRectCallout">
            <a:avLst>
              <a:gd name="adj1" fmla="val -34870"/>
              <a:gd name="adj2" fmla="val -842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ex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2000" y="3429000"/>
            <a:ext cx="18698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dev/cloo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63680" y="2249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19320" y="2276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14130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en H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k=[‘phy:/dev/cloop0,hda1,ro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90648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132000" y="260280"/>
            <a:ext cx="2521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474920" y="115920"/>
            <a:ext cx="2466720" cy="3537000"/>
            <a:chOff x="1474920" y="115920"/>
            <a:chExt cx="2466720" cy="3537000"/>
          </a:xfrm>
        </p:grpSpPr>
        <p:sp>
          <p:nvSpPr>
            <p:cNvPr id="379" name=""/>
            <p:cNvSpPr/>
            <p:nvPr/>
          </p:nvSpPr>
          <p:spPr>
            <a:xfrm>
              <a:off x="1474920" y="692280"/>
              <a:ext cx="1439640" cy="26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4920" y="115920"/>
              <a:ext cx="1800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Block 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2G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3280" y="97956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64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3640" y="328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474920" y="979560"/>
              <a:ext cx="1439640" cy="1728720"/>
              <a:chOff x="1474920" y="979560"/>
              <a:chExt cx="1439640" cy="1728720"/>
            </a:xfrm>
          </p:grpSpPr>
          <p:sp>
            <p:nvSpPr>
              <p:cNvPr id="384" name=""/>
              <p:cNvSpPr/>
              <p:nvPr/>
            </p:nvSpPr>
            <p:spPr>
              <a:xfrm>
                <a:off x="1474920" y="9795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4920" y="126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74920" y="1554120"/>
                <a:ext cx="1439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74920" y="184320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74920" y="213048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74920" y="24177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74920" y="270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739880" y="6904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6920" y="9684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 rot="16680000">
              <a:off x="2275560" y="901440"/>
              <a:ext cx="1009440" cy="528840"/>
            </a:xfrm>
            <a:custGeom>
              <a:avLst/>
              <a:gdLst>
                <a:gd name="textAreaLeft" fmla="*/ 504720 w 1009440"/>
                <a:gd name="textAreaRight" fmla="*/ 861840 w 100944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 rot="14340000">
              <a:off x="2170440" y="533160"/>
              <a:ext cx="1009080" cy="528840"/>
            </a:xfrm>
            <a:custGeom>
              <a:avLst/>
              <a:gdLst>
                <a:gd name="textAreaLeft" fmla="*/ 504000 w 1009080"/>
                <a:gd name="textAreaRight" fmla="*/ 861120 w 100908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501640" y="1415160"/>
              <a:ext cx="563400" cy="1154880"/>
              <a:chOff x="2501640" y="1415160"/>
              <a:chExt cx="563400" cy="1154880"/>
            </a:xfrm>
          </p:grpSpPr>
          <p:sp>
            <p:nvSpPr>
              <p:cNvPr id="396" name=""/>
              <p:cNvSpPr/>
              <p:nvPr/>
            </p:nvSpPr>
            <p:spPr>
              <a:xfrm flipH="1" flipV="1" rot="16680000">
                <a:off x="2312280" y="1855440"/>
                <a:ext cx="941400" cy="436680"/>
              </a:xfrm>
              <a:custGeom>
                <a:avLst/>
                <a:gdLst>
                  <a:gd name="textAreaLeft" fmla="*/ 345240 w 941400"/>
                  <a:gd name="textAreaRight" fmla="*/ 803160 w 941400"/>
                  <a:gd name="textAreaTop" fmla="*/ -360 h 436680"/>
                  <a:gd name="textAreaBottom" fmla="*/ 21780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4920000">
                <a:off x="2316960" y="1689480"/>
                <a:ext cx="933480" cy="436680"/>
              </a:xfrm>
              <a:custGeom>
                <a:avLst/>
                <a:gdLst>
                  <a:gd name="textAreaLeft" fmla="*/ 358200 w 933480"/>
                  <a:gd name="textAreaRight" fmla="*/ 796680 w 933480"/>
                  <a:gd name="textAreaTop" fmla="*/ 0 h 436680"/>
                  <a:gd name="textAreaBottom" fmla="*/ 21816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518920" y="2291400"/>
              <a:ext cx="534600" cy="976680"/>
              <a:chOff x="2518920" y="2291400"/>
              <a:chExt cx="534600" cy="976680"/>
            </a:xfrm>
          </p:grpSpPr>
          <p:sp>
            <p:nvSpPr>
              <p:cNvPr id="399" name=""/>
              <p:cNvSpPr/>
              <p:nvPr/>
            </p:nvSpPr>
            <p:spPr>
              <a:xfrm flipH="1" flipV="1" rot="16680000">
                <a:off x="2388240" y="2629800"/>
                <a:ext cx="795240" cy="428400"/>
              </a:xfrm>
              <a:custGeom>
                <a:avLst/>
                <a:gdLst>
                  <a:gd name="textAreaLeft" fmla="*/ 291960 w 795240"/>
                  <a:gd name="textAreaRight" fmla="*/ 678960 w 795240"/>
                  <a:gd name="textAreaTop" fmla="*/ 360 h 428400"/>
                  <a:gd name="textAreaBottom" fmla="*/ 214560 h 428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4920000">
                <a:off x="2391120" y="2497320"/>
                <a:ext cx="787320" cy="427320"/>
              </a:xfrm>
              <a:custGeom>
                <a:avLst/>
                <a:gdLst>
                  <a:gd name="textAreaLeft" fmla="*/ 302400 w 787320"/>
                  <a:gd name="textAreaRight" fmla="*/ 672120 w 787320"/>
                  <a:gd name="textAreaTop" fmla="*/ 0 h 427320"/>
                  <a:gd name="textAreaBottom" fmla="*/ 213480 h 427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2914560" y="692280"/>
              <a:ext cx="1008000" cy="21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914560" y="1150560"/>
              <a:ext cx="1024200" cy="40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914560" y="1401840"/>
              <a:ext cx="1027080" cy="101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914560" y="1649520"/>
              <a:ext cx="96516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35280" y="11955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5280" y="2563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3480" y="1765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604360" y="2133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260280"/>
            <a:ext cx="280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  named by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4920" y="3782880"/>
            <a:ext cx="143964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070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64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63752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74920" y="4070520"/>
            <a:ext cx="1439640" cy="1728720"/>
            <a:chOff x="1474920" y="4070520"/>
            <a:chExt cx="1439640" cy="1728720"/>
          </a:xfrm>
        </p:grpSpPr>
        <p:sp>
          <p:nvSpPr>
            <p:cNvPr id="414" name=""/>
            <p:cNvSpPr/>
            <p:nvPr/>
          </p:nvSpPr>
          <p:spPr>
            <a:xfrm>
              <a:off x="1474920" y="40705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4920" y="43578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74920" y="46450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74920" y="49338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74920" y="52214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74920" y="55087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74920" y="579744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39880" y="3781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6920" y="40593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 rot="16680000">
            <a:off x="2275560" y="399240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 rot="14340000">
            <a:off x="2169000" y="362556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00560" y="4507560"/>
            <a:ext cx="566640" cy="1151640"/>
            <a:chOff x="2500560" y="4507560"/>
            <a:chExt cx="566640" cy="1151640"/>
          </a:xfrm>
        </p:grpSpPr>
        <p:sp>
          <p:nvSpPr>
            <p:cNvPr id="426" name=""/>
            <p:cNvSpPr/>
            <p:nvPr/>
          </p:nvSpPr>
          <p:spPr>
            <a:xfrm flipH="1" flipV="1" rot="16680000">
              <a:off x="2313000" y="4942080"/>
              <a:ext cx="942840" cy="438480"/>
            </a:xfrm>
            <a:custGeom>
              <a:avLst/>
              <a:gdLst>
                <a:gd name="textAreaLeft" fmla="*/ 345960 w 942840"/>
                <a:gd name="textAreaRight" fmla="*/ 804960 w 942840"/>
                <a:gd name="textAreaTop" fmla="*/ 360 h 438480"/>
                <a:gd name="textAreaBottom" fmla="*/ 21960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4920000">
              <a:off x="2314800" y="478152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18200" y="5384160"/>
            <a:ext cx="536760" cy="975600"/>
            <a:chOff x="2518200" y="5384160"/>
            <a:chExt cx="536760" cy="975600"/>
          </a:xfrm>
        </p:grpSpPr>
        <p:sp>
          <p:nvSpPr>
            <p:cNvPr id="429" name=""/>
            <p:cNvSpPr/>
            <p:nvPr/>
          </p:nvSpPr>
          <p:spPr>
            <a:xfrm flipH="1" flipV="1" rot="16680000">
              <a:off x="2388600" y="572004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rot="4920000">
              <a:off x="2390400" y="559044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914560" y="37828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14560" y="4242960"/>
            <a:ext cx="102420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914560" y="449388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914560" y="474156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35280" y="4286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5654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3480" y="48560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5229360"/>
            <a:ext cx="1439640" cy="288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08000" y="3789360"/>
            <a:ext cx="1763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apt-get install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3830760"/>
            <a:ext cx="718920" cy="215640"/>
          </a:xfrm>
          <a:prstGeom prst="rect">
            <a:avLst/>
          </a:prstGeom>
          <a:solidFill>
            <a:srgbClr val="ff0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09800" y="4048200"/>
            <a:ext cx="1009440" cy="1326960"/>
            <a:chOff x="3709800" y="4048200"/>
            <a:chExt cx="1009440" cy="1326960"/>
          </a:xfrm>
        </p:grpSpPr>
        <p:grpSp>
          <p:nvGrpSpPr>
            <p:cNvPr id="442" name=""/>
            <p:cNvGrpSpPr/>
            <p:nvPr/>
          </p:nvGrpSpPr>
          <p:grpSpPr>
            <a:xfrm>
              <a:off x="3770280" y="4543560"/>
              <a:ext cx="882720" cy="495000"/>
              <a:chOff x="3770280" y="4543560"/>
              <a:chExt cx="882720" cy="495000"/>
            </a:xfrm>
          </p:grpSpPr>
          <p:sp>
            <p:nvSpPr>
              <p:cNvPr id="443" name=""/>
              <p:cNvSpPr/>
              <p:nvPr/>
            </p:nvSpPr>
            <p:spPr>
              <a:xfrm rot="5400000">
                <a:off x="4119480" y="4257720"/>
                <a:ext cx="247680" cy="819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400000">
                <a:off x="4056120" y="4505040"/>
                <a:ext cx="247320" cy="8193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709800" y="5038560"/>
              <a:ext cx="880920" cy="336600"/>
              <a:chOff x="3709800" y="5038560"/>
              <a:chExt cx="880920" cy="336600"/>
            </a:xfrm>
          </p:grpSpPr>
          <p:sp>
            <p:nvSpPr>
              <p:cNvPr id="446" name=""/>
              <p:cNvSpPr/>
              <p:nvPr/>
            </p:nvSpPr>
            <p:spPr>
              <a:xfrm rot="5400000">
                <a:off x="4097520" y="4713840"/>
                <a:ext cx="168480" cy="81756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400000">
                <a:off x="4034520" y="4882320"/>
                <a:ext cx="168120" cy="817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rot="5400000">
              <a:off x="4186440" y="376308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4123080" y="401076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711240" y="692280"/>
            <a:ext cx="1006560" cy="1544400"/>
            <a:chOff x="3711240" y="692280"/>
            <a:chExt cx="1006560" cy="1544400"/>
          </a:xfrm>
        </p:grpSpPr>
        <p:sp>
          <p:nvSpPr>
            <p:cNvPr id="451" name=""/>
            <p:cNvSpPr/>
            <p:nvPr/>
          </p:nvSpPr>
          <p:spPr>
            <a:xfrm>
              <a:off x="3924360" y="692280"/>
              <a:ext cx="718920" cy="215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711240" y="909720"/>
              <a:ext cx="1006560" cy="1326960"/>
              <a:chOff x="3711240" y="909720"/>
              <a:chExt cx="1006560" cy="1326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3773160" y="1405080"/>
                <a:ext cx="880920" cy="495000"/>
                <a:chOff x="3773160" y="1405080"/>
                <a:chExt cx="880920" cy="495000"/>
              </a:xfrm>
            </p:grpSpPr>
            <p:sp>
              <p:nvSpPr>
                <p:cNvPr id="454" name=""/>
                <p:cNvSpPr/>
                <p:nvPr/>
              </p:nvSpPr>
              <p:spPr>
                <a:xfrm rot="5400000">
                  <a:off x="4121280" y="111996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5400000">
                  <a:off x="4058280" y="1367640"/>
                  <a:ext cx="247320" cy="81756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711240" y="1900080"/>
                <a:ext cx="880920" cy="336600"/>
                <a:chOff x="3711240" y="1900080"/>
                <a:chExt cx="880920" cy="336600"/>
              </a:xfrm>
            </p:grpSpPr>
            <p:sp>
              <p:nvSpPr>
                <p:cNvPr id="457" name=""/>
                <p:cNvSpPr/>
                <p:nvPr/>
              </p:nvSpPr>
              <p:spPr>
                <a:xfrm rot="5400000">
                  <a:off x="4098960" y="1575360"/>
                  <a:ext cx="168480" cy="81756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5400000">
                  <a:off x="4035960" y="1743840"/>
                  <a:ext cx="168120" cy="81756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836520" y="909720"/>
                <a:ext cx="881280" cy="495360"/>
                <a:chOff x="3836520" y="909720"/>
                <a:chExt cx="881280" cy="495360"/>
              </a:xfrm>
            </p:grpSpPr>
            <p:sp>
              <p:nvSpPr>
                <p:cNvPr id="460" name=""/>
                <p:cNvSpPr/>
                <p:nvPr/>
              </p:nvSpPr>
              <p:spPr>
                <a:xfrm rot="5400000">
                  <a:off x="4185000" y="62460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5400000">
                  <a:off x="4121280" y="87228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2" name=""/>
          <p:cNvGrpSpPr/>
          <p:nvPr/>
        </p:nvGrpSpPr>
        <p:grpSpPr>
          <a:xfrm>
            <a:off x="4643280" y="836640"/>
            <a:ext cx="720720" cy="865080"/>
            <a:chOff x="4643280" y="836640"/>
            <a:chExt cx="720720" cy="865080"/>
          </a:xfrm>
        </p:grpSpPr>
        <p:sp>
          <p:nvSpPr>
            <p:cNvPr id="463" name=""/>
            <p:cNvSpPr/>
            <p:nvPr/>
          </p:nvSpPr>
          <p:spPr>
            <a:xfrm>
              <a:off x="4643280" y="1052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3280" y="1484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3280" y="170028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3280" y="1268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3280" y="836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643280" y="3932280"/>
            <a:ext cx="649440" cy="938160"/>
            <a:chOff x="4643280" y="3932280"/>
            <a:chExt cx="649440" cy="938160"/>
          </a:xfrm>
        </p:grpSpPr>
        <p:sp>
          <p:nvSpPr>
            <p:cNvPr id="469" name=""/>
            <p:cNvSpPr/>
            <p:nvPr/>
          </p:nvSpPr>
          <p:spPr>
            <a:xfrm>
              <a:off x="4643280" y="4165560"/>
              <a:ext cx="6494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3280" y="463392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43280" y="486900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43280" y="440064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3280" y="393228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0" y="3645000"/>
            <a:ext cx="7020000" cy="14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219640" y="720720"/>
            <a:ext cx="865080" cy="1341360"/>
            <a:chOff x="5219640" y="720720"/>
            <a:chExt cx="865080" cy="1341360"/>
          </a:xfrm>
        </p:grpSpPr>
        <p:sp>
          <p:nvSpPr>
            <p:cNvPr id="476" name=""/>
            <p:cNvSpPr/>
            <p:nvPr/>
          </p:nvSpPr>
          <p:spPr>
            <a:xfrm>
              <a:off x="5364000" y="936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64000" y="720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64000" y="1152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64000" y="1368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4000" y="158436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9640" y="16938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13440" y="692280"/>
            <a:ext cx="13669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164360" y="1052640"/>
            <a:ext cx="217440" cy="3025800"/>
            <a:chOff x="7164360" y="1052640"/>
            <a:chExt cx="217440" cy="3025800"/>
          </a:xfrm>
        </p:grpSpPr>
        <p:sp>
          <p:nvSpPr>
            <p:cNvPr id="484" name=""/>
            <p:cNvSpPr/>
            <p:nvPr/>
          </p:nvSpPr>
          <p:spPr>
            <a:xfrm>
              <a:off x="7164360" y="1052640"/>
              <a:ext cx="21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80360" y="105264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4360" y="4076640"/>
              <a:ext cx="216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164360" y="1484280"/>
            <a:ext cx="290520" cy="3025800"/>
            <a:chOff x="7164360" y="1484280"/>
            <a:chExt cx="290520" cy="3025800"/>
          </a:xfrm>
        </p:grpSpPr>
        <p:sp>
          <p:nvSpPr>
            <p:cNvPr id="488" name=""/>
            <p:cNvSpPr/>
            <p:nvPr/>
          </p:nvSpPr>
          <p:spPr>
            <a:xfrm>
              <a:off x="7164360" y="148428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3440" y="1484280"/>
              <a:ext cx="144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4360" y="45086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164360" y="1700280"/>
            <a:ext cx="361800" cy="3025800"/>
            <a:chOff x="7164360" y="1700280"/>
            <a:chExt cx="361800" cy="3025800"/>
          </a:xfrm>
        </p:grpSpPr>
        <p:sp>
          <p:nvSpPr>
            <p:cNvPr id="492" name=""/>
            <p:cNvSpPr/>
            <p:nvPr/>
          </p:nvSpPr>
          <p:spPr>
            <a:xfrm>
              <a:off x="7164360" y="1700280"/>
              <a:ext cx="36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24720" y="170028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4360" y="472428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278920" y="4076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907920"/>
            <a:ext cx="1150920" cy="12970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04000" y="2349360"/>
            <a:ext cx="1150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Sam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Reusable for 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236000" y="2419200"/>
            <a:ext cx="1223640" cy="1516320"/>
          </a:xfrm>
          <a:prstGeom prst="line">
            <a:avLst/>
          </a:prstGeom>
          <a:ln w="38160">
            <a:solidFill>
              <a:srgbClr val="fea4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48360" y="3745080"/>
            <a:ext cx="2230200" cy="1414440"/>
            <a:chOff x="5148360" y="3745080"/>
            <a:chExt cx="2230200" cy="1414440"/>
          </a:xfrm>
        </p:grpSpPr>
        <p:sp>
          <p:nvSpPr>
            <p:cNvPr id="500" name=""/>
            <p:cNvSpPr/>
            <p:nvPr/>
          </p:nvSpPr>
          <p:spPr>
            <a:xfrm>
              <a:off x="5292720" y="4249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92720" y="381780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ff00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92720" y="4033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8360" y="47912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2000" y="3745080"/>
              <a:ext cx="13665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index.id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4ad36ffe8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dd4daf34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2d34ff3e1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3310012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92720" y="4465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92720" y="472428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932360" y="0"/>
            <a:ext cx="1440" cy="685800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89000"/>
            <a:ext cx="720720" cy="1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59280" y="34920"/>
            <a:ext cx="1584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CLOOP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4920"/>
            <a:ext cx="1942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block fi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3284640"/>
            <a:ext cx="1440" cy="792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urpose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Migration System for anonymous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t OSes on anonymous PC without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Z (Free Live OS Zoo) has same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oszoo.org/wiki/index.php/Free_Live_OS_Z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EMU” runs OSes(Linux, Minix, Plan9, OpenSolaris, etc) on the server. The GUI is transferred by VNC on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rver Centr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d response because the server exits i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est OS has no network service for security &amp;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Circular i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lient Centric Syst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utilize virtualization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 Bootloader +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 PC boots with the Virtual Bootloader and get OS images via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PC has powerful CPU, much Memory, and wid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prevents server bottleneck. The network is managed by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images are maintained on the server and they are execute on a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idea is implemented on Collective[NSDI’05] and Internet Suspend/Resume[WMCSA’0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at is diffe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S Circular utilizes existing, in-expensive and popular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280" y="1557360"/>
            <a:ext cx="889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is consisted of “Virtual Machine software” and host OS which runs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achine offers an Abstraction Layer which offers a common PC environment on any P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Virtualization enables us to use normal installer and security management for Guest 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straction is used for OS mi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lPAD [Mobisys’05], VAT of Collective[NSDI’05], Internet Suspend/Resume[WMCSA’02 ] use VM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OS supports real device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PPIX is used on SoulPAD and VAT of Collective, because KNOPPIX automatically detects available devices and loads the appropriate Linux driv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Xenoppix as 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noppix (2005.0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Xen + KNOPP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Xenoppix uses Para-Virtualizaiton and runs Plan9 &amp; NetBSD. Current Xenoppix runs Para &amp; Ful Virtualiza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Virtualzation of Xen “HVM” prepares a common PC environment on anonymous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VM requires virtualization instructions; Intel VT or AMD-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PPIX works on Domain0 of Xen (as the host O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has no device drivers and utilize the drivers of the OS on Domain0.“Autoconfig” of KNOPPIX detects devices and setup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Xen and KNOPPIX is the best marri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ed Virtual 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Disk is Block Level Abst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quirement for global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al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Wild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/Storage Transparent for mobil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e network (dis/re)-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tself should maintained by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s have to keep validness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5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ype of 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ersistent vers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o” of operations during OS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ver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lback” of OS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has same versioning of Venti[USENIX’02] of Plan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HA-1 hash of the data acts as the address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blocks are write once and aren’t removed. They make ideal for permanent or backup sto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Venti requires special protocol for file system and limits the scal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saves data blocks to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eature makes to utilize HTTP to distribut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 are desired to be shared on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consider network latency and extensibility of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D, iSCSI and iFCP look fine, but they require special software on server. This feature prevents 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of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require special daemons and special ports on servers. The requirement is file distribution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World Wilde Deployment , utilize existing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services, Mirror servers,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須崎有康</dc:creator>
  <dc:description/>
  <dc:language>en-US</dc:language>
  <cp:lastModifiedBy>須崎有康</cp:lastModifiedBy>
  <cp:revision>0</cp:revision>
  <dc:subject/>
  <dc:title>OS Circulation environment  “Trusted HTTP-FUSE Xenoppix” </dc:title>
</cp:coreProperties>
</file>